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E83E-D4A2-4236-AD1B-3F8CA0B79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C4A8-6916-40C6-870F-8D54D8E83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5BF8-075C-4A05-9873-C6CBFD635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2D13-3C80-48D5-9674-3D68DCB78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DFA29-3B6D-426B-99F0-20011C030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1144D-E1D9-41D6-B7EB-4CFE48513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4B2AF-1460-42F6-A365-B805E9CC9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3CB0F-33DF-43FC-BE77-F0DDD4ED6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8FCA0-1683-43F2-853D-52B40D697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4077A-1191-4898-902F-21CE720F1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CE338-546D-4071-9086-AB48C598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AB97-8DEA-4919-9B94-F24E08AE5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5D484-49B3-4C6C-A623-3BCB0F2A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20AAA-A665-4007-990B-D742D7C0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F3301-A86A-407E-9C60-659D17BB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9183F-C220-432A-9980-6237FF20D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D39CC-8BA3-4CA7-9073-B0287343A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A8E7-C8C3-4478-BAB5-2223278F2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5D3F-4A4F-4B2F-87E5-9EE3F9188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6DAE-520F-4EDF-A2CE-7E29EE878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E849-7577-4F17-ABF3-A71ED4330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22E0-14DA-4AF9-B727-A0808788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9061-14F8-4C78-A679-2C106CDF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0D90-367F-4084-AB44-0E2BF4F7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60EE6-65FC-4AC3-B38F-EF5833FCC6CB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60829-6C5E-47B2-A3E0-46360740320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03DFC-1B98-479D-88CD-D6B10183883A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6A48E-F7C7-4346-BBD3-B69A6A66E0C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D993F-5F68-42C1-A4CA-8E62DA7DDEE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763280" y="2781000"/>
            <a:ext cx="738036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节 个性与消费者行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节 自我概念与消费者行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节 生活方式与消费者行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179280" y="765000"/>
            <a:ext cx="8964720" cy="13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c0000"/>
                </a:solidFill>
                <a:latin typeface="黑体"/>
                <a:ea typeface="黑体"/>
              </a:rPr>
              <a:t>第四章 消费者的个性、自我概念与生活方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A991-6375-45F9-86DF-D9537C8E3F4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7543800" cy="93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自我概念的理论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矩形 7"/>
          <p:cNvSpPr/>
          <p:nvPr/>
        </p:nvSpPr>
        <p:spPr>
          <a:xfrm>
            <a:off x="539640" y="1052640"/>
            <a:ext cx="78487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150000"/>
              </a:lnSpc>
              <a:buClr>
                <a:srgbClr val="7030a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我形象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产品形象一致理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2" name="组合 351"/>
          <p:cNvGrpSpPr/>
          <p:nvPr/>
        </p:nvGrpSpPr>
        <p:grpSpPr>
          <a:xfrm>
            <a:off x="611280" y="2276640"/>
            <a:ext cx="7345440" cy="3097080"/>
            <a:chOff x="611280" y="2276640"/>
            <a:chExt cx="7345440" cy="3097080"/>
          </a:xfrm>
        </p:grpSpPr>
        <p:sp>
          <p:nvSpPr>
            <p:cNvPr id="213" name="矩形 27"/>
            <p:cNvSpPr/>
            <p:nvPr/>
          </p:nvSpPr>
          <p:spPr>
            <a:xfrm>
              <a:off x="611280" y="2276640"/>
              <a:ext cx="7345440" cy="30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14" name="Group 313"/>
            <p:cNvGrpSpPr/>
            <p:nvPr/>
          </p:nvGrpSpPr>
          <p:grpSpPr>
            <a:xfrm>
              <a:off x="1830600" y="2276640"/>
              <a:ext cx="5003640" cy="2909160"/>
              <a:chOff x="1830600" y="2276640"/>
              <a:chExt cx="5003640" cy="2909160"/>
            </a:xfrm>
          </p:grpSpPr>
          <p:sp>
            <p:nvSpPr>
              <p:cNvPr id="215" name="Rectangle 314"/>
              <p:cNvSpPr/>
              <p:nvPr/>
            </p:nvSpPr>
            <p:spPr>
              <a:xfrm>
                <a:off x="3567960" y="4437000"/>
                <a:ext cx="1413000" cy="74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象征产品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6" name="Rectangle 315"/>
              <p:cNvSpPr/>
              <p:nvPr/>
            </p:nvSpPr>
            <p:spPr>
              <a:xfrm>
                <a:off x="3868920" y="2276640"/>
                <a:ext cx="810720" cy="51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阶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" name="Rectangle 316"/>
              <p:cNvSpPr/>
              <p:nvPr/>
            </p:nvSpPr>
            <p:spPr>
              <a:xfrm>
                <a:off x="1830600" y="2535840"/>
                <a:ext cx="1111680" cy="74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自我概念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" name="Rectangle 317"/>
              <p:cNvSpPr/>
              <p:nvPr/>
            </p:nvSpPr>
            <p:spPr>
              <a:xfrm>
                <a:off x="5606640" y="2535840"/>
                <a:ext cx="1227600" cy="74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参照群体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2340000" y="3284280"/>
                <a:ext cx="1227960" cy="1527120"/>
                <a:chOff x="2340000" y="3284280"/>
                <a:chExt cx="1227960" cy="1527120"/>
              </a:xfrm>
            </p:grpSpPr>
            <p:cxnSp>
              <p:nvCxnSpPr>
                <p:cNvPr id="220" name="AutoShape 318"/>
                <p:cNvCxnSpPr/>
                <p:nvPr/>
              </p:nvCxnSpPr>
              <p:spPr>
                <a:xfrm>
                  <a:off x="2340000" y="3284280"/>
                  <a:ext cx="1228320" cy="15274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21" name=""/>
                <p:cNvSpPr txBox="1"/>
                <p:nvPr/>
              </p:nvSpPr>
              <p:spPr>
                <a:xfrm rot="16200000">
                  <a:off x="2190240" y="3434040"/>
                  <a:ext cx="1526760" cy="122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2941920" y="2909880"/>
                <a:ext cx="2664360" cy="720"/>
                <a:chOff x="2941920" y="2909880"/>
                <a:chExt cx="2664360" cy="720"/>
              </a:xfrm>
            </p:grpSpPr>
            <p:cxnSp>
              <p:nvCxnSpPr>
                <p:cNvPr id="223" name="AutoShape 319"/>
                <p:cNvCxnSpPr/>
                <p:nvPr/>
              </p:nvCxnSpPr>
              <p:spPr>
                <a:xfrm flipH="1">
                  <a:off x="2941920" y="2909880"/>
                  <a:ext cx="2664720" cy="10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24" name=""/>
                <p:cNvSpPr txBox="1"/>
                <p:nvPr/>
              </p:nvSpPr>
              <p:spPr>
                <a:xfrm>
                  <a:off x="2942280" y="2909880"/>
                  <a:ext cx="2664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4980600" y="3284280"/>
                <a:ext cx="1227960" cy="1527120"/>
                <a:chOff x="4980600" y="3284280"/>
                <a:chExt cx="1227960" cy="1527120"/>
              </a:xfrm>
            </p:grpSpPr>
            <p:cxnSp>
              <p:nvCxnSpPr>
                <p:cNvPr id="226" name="AutoShape 320"/>
                <p:cNvCxnSpPr/>
                <p:nvPr/>
              </p:nvCxnSpPr>
              <p:spPr>
                <a:xfrm flipH="1">
                  <a:off x="4980600" y="3284280"/>
                  <a:ext cx="1228320" cy="15274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27" name=""/>
                <p:cNvSpPr txBox="1"/>
                <p:nvPr/>
              </p:nvSpPr>
              <p:spPr>
                <a:xfrm rot="5400000">
                  <a:off x="4831200" y="3433680"/>
                  <a:ext cx="1526760" cy="122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28" name="Rectangle 321"/>
              <p:cNvSpPr/>
              <p:nvPr/>
            </p:nvSpPr>
            <p:spPr>
              <a:xfrm>
                <a:off x="2525400" y="4177800"/>
                <a:ext cx="833760" cy="51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阶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" name="Rectangle 322"/>
              <p:cNvSpPr/>
              <p:nvPr/>
            </p:nvSpPr>
            <p:spPr>
              <a:xfrm>
                <a:off x="5189400" y="4177800"/>
                <a:ext cx="926640" cy="51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阶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30" name="Rectangle 39"/>
          <p:cNvSpPr/>
          <p:nvPr/>
        </p:nvSpPr>
        <p:spPr>
          <a:xfrm>
            <a:off x="1403280" y="5517360"/>
            <a:ext cx="60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象征产品在自我与他人之间的沟通作用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41464-9C9C-448A-817A-F6B3126CAA7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26560" y="142920"/>
            <a:ext cx="72169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自我概念的营销启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908000" y="1915920"/>
            <a:ext cx="67788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新产品开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广告策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0CF1C-B04C-4880-82E7-85F217FF27F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四、自我概念的测量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28280"/>
            <a:ext cx="86868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测量自我概念的常用工具是语义差别量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美国学者马赫塔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N. K. Malhotra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设计了一种既可以测量自我概念，又可以衡量产品形象的语义差别量表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该量表是由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双极形容词组成的一个语义区分量表。该量表可以获得消费者所期望的产品形象方面的信息，也可以了解消费者对现在产品的评价，从而找出产品形象改进的方向，更好地满足消费者需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A792E-4EF3-4B4B-8954-515327B7D32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1" name="Picture 5" descr=""/>
          <p:cNvPicPr/>
          <p:nvPr/>
        </p:nvPicPr>
        <p:blipFill>
          <a:blip r:embed="rId1"/>
          <a:stretch/>
        </p:blipFill>
        <p:spPr>
          <a:xfrm>
            <a:off x="755640" y="38160"/>
            <a:ext cx="7056360" cy="681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500B7-DEF4-4E76-B7B6-8183A79F3D4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三节 生活方式与消费者行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619280" y="1719360"/>
            <a:ext cx="7067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生活方式的含义与特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生活方式的测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生活方式的营销启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842DC-4EAE-4615-8012-5C66F2E584B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生活方式的含义与特征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539640" y="11966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生活方式含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们以活动、兴趣和观点的形式表现出来的在世界上的生活模式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菲利普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科特勒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生活方式的特点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Feldman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&amp; Thielbar, 197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方式是一种群体现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方式覆盖了生活的各个方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方式反映了一个人的核心生活利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方式在不同人口统计变量上表现出差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4E6D6-CF91-484F-B231-37197A5593A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生活方式的测量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547280" y="1719360"/>
            <a:ext cx="71391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IO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-ICP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方法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ina--Val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模型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F5B02-3356-4E3D-99E2-AF05060A2CA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5676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IO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7" name="Picture 5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8616960" cy="4465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402C0-C37E-46BD-97A3-C4CF8CC2DD3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ALS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261" name="Group 4"/>
          <p:cNvGrpSpPr/>
          <p:nvPr/>
        </p:nvGrpSpPr>
        <p:grpSpPr>
          <a:xfrm>
            <a:off x="539640" y="1628640"/>
            <a:ext cx="8342280" cy="4248360"/>
            <a:chOff x="539640" y="1628640"/>
            <a:chExt cx="8342280" cy="4248360"/>
          </a:xfrm>
        </p:grpSpPr>
        <p:sp>
          <p:nvSpPr>
            <p:cNvPr id="262" name="AutoShape 5"/>
            <p:cNvSpPr/>
            <p:nvPr/>
          </p:nvSpPr>
          <p:spPr>
            <a:xfrm>
              <a:off x="539640" y="1628640"/>
              <a:ext cx="8342280" cy="42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63" name="Group 6"/>
            <p:cNvGrpSpPr/>
            <p:nvPr/>
          </p:nvGrpSpPr>
          <p:grpSpPr>
            <a:xfrm>
              <a:off x="732600" y="2020680"/>
              <a:ext cx="7699680" cy="3587400"/>
              <a:chOff x="732600" y="2020680"/>
              <a:chExt cx="7699680" cy="3587400"/>
            </a:xfrm>
          </p:grpSpPr>
          <p:sp>
            <p:nvSpPr>
              <p:cNvPr id="264" name="Line 7"/>
              <p:cNvSpPr/>
              <p:nvPr/>
            </p:nvSpPr>
            <p:spPr>
              <a:xfrm>
                <a:off x="1392840" y="2020680"/>
                <a:ext cx="1080" cy="3188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5" name="Rectangle 8"/>
              <p:cNvSpPr/>
              <p:nvPr/>
            </p:nvSpPr>
            <p:spPr>
              <a:xfrm>
                <a:off x="2491200" y="2286000"/>
                <a:ext cx="1319760" cy="2525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6" name="Rectangle 9"/>
              <p:cNvSpPr/>
              <p:nvPr/>
            </p:nvSpPr>
            <p:spPr>
              <a:xfrm>
                <a:off x="4691520" y="2286000"/>
                <a:ext cx="1320840" cy="2525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7" name="Rectangle 10"/>
              <p:cNvSpPr/>
              <p:nvPr/>
            </p:nvSpPr>
            <p:spPr>
              <a:xfrm>
                <a:off x="6893640" y="2286000"/>
                <a:ext cx="1320840" cy="2525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8" name="AutoShape 11"/>
              <p:cNvSpPr/>
              <p:nvPr/>
            </p:nvSpPr>
            <p:spPr>
              <a:xfrm>
                <a:off x="2272320" y="2152080"/>
                <a:ext cx="1760040" cy="119664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思考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9" name="AutoShape 12"/>
              <p:cNvSpPr/>
              <p:nvPr/>
            </p:nvSpPr>
            <p:spPr>
              <a:xfrm>
                <a:off x="2272320" y="3083760"/>
                <a:ext cx="1760040" cy="119556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信奉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0" name="AutoShape 13"/>
              <p:cNvSpPr/>
              <p:nvPr/>
            </p:nvSpPr>
            <p:spPr>
              <a:xfrm>
                <a:off x="4376880" y="2500200"/>
                <a:ext cx="1758600" cy="119664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成就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1" name="AutoShape 14"/>
              <p:cNvSpPr/>
              <p:nvPr/>
            </p:nvSpPr>
            <p:spPr>
              <a:xfrm>
                <a:off x="4472640" y="3215520"/>
                <a:ext cx="1758960" cy="119664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奋争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2" name="AutoShape 15"/>
              <p:cNvSpPr/>
              <p:nvPr/>
            </p:nvSpPr>
            <p:spPr>
              <a:xfrm>
                <a:off x="4472640" y="4014360"/>
                <a:ext cx="1758960" cy="119484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求存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3" name="AutoShape 16"/>
              <p:cNvSpPr/>
              <p:nvPr/>
            </p:nvSpPr>
            <p:spPr>
              <a:xfrm>
                <a:off x="6673320" y="2152080"/>
                <a:ext cx="1758960" cy="119772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体验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4" name="AutoShape 17"/>
              <p:cNvSpPr/>
              <p:nvPr/>
            </p:nvSpPr>
            <p:spPr>
              <a:xfrm>
                <a:off x="6673320" y="2950200"/>
                <a:ext cx="1758960" cy="119772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制造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5" name="Rectangle 18"/>
              <p:cNvSpPr/>
              <p:nvPr/>
            </p:nvSpPr>
            <p:spPr>
              <a:xfrm>
                <a:off x="1171440" y="5209200"/>
                <a:ext cx="66132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低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6" name="Rectangle 19"/>
              <p:cNvSpPr/>
              <p:nvPr/>
            </p:nvSpPr>
            <p:spPr>
              <a:xfrm>
                <a:off x="732600" y="2286000"/>
                <a:ext cx="660240" cy="278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资源丰富程度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77" name="Rectangle 20"/>
            <p:cNvSpPr/>
            <p:nvPr/>
          </p:nvSpPr>
          <p:spPr>
            <a:xfrm>
              <a:off x="2712960" y="5475960"/>
              <a:ext cx="1098360" cy="39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理想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8" name="Rectangle 21"/>
            <p:cNvSpPr/>
            <p:nvPr/>
          </p:nvSpPr>
          <p:spPr>
            <a:xfrm>
              <a:off x="4912560" y="5475960"/>
              <a:ext cx="1099440" cy="39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成就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Rectangle 22"/>
            <p:cNvSpPr/>
            <p:nvPr/>
          </p:nvSpPr>
          <p:spPr>
            <a:xfrm>
              <a:off x="7112880" y="5475960"/>
              <a:ext cx="1099440" cy="39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自我表达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AutoShape 23"/>
            <p:cNvSpPr/>
            <p:nvPr/>
          </p:nvSpPr>
          <p:spPr>
            <a:xfrm>
              <a:off x="4377600" y="1628640"/>
              <a:ext cx="1758600" cy="119772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创新者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slow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5EBD8-B9DB-4C2D-8D39-004AF93BACA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539640" y="1267920"/>
            <a:ext cx="815832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lnSpc>
                <a:spcPct val="15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个人因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决策影响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产品变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"/>
          <p:cNvSpPr/>
          <p:nvPr/>
        </p:nvSpPr>
        <p:spPr>
          <a:xfrm>
            <a:off x="468360" y="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-ICP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1332000" y="2997360"/>
            <a:ext cx="7488000" cy="3168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A9399-BC44-4CD8-A33F-296A3E3A191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一节 个性与消费者行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619280" y="1988640"/>
            <a:ext cx="70675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消费者个性概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个性与消费者行为的关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F622C-EE61-446A-9ADC-B255F461C20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Rectangle 2"/>
          <p:cNvSpPr/>
          <p:nvPr/>
        </p:nvSpPr>
        <p:spPr>
          <a:xfrm>
            <a:off x="179280" y="189000"/>
            <a:ext cx="754380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ina--Vals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模型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8" name="Picture 5" descr=""/>
          <p:cNvPicPr/>
          <p:nvPr/>
        </p:nvPicPr>
        <p:blipFill>
          <a:blip r:embed="rId1"/>
          <a:stretch/>
        </p:blipFill>
        <p:spPr>
          <a:xfrm>
            <a:off x="1116000" y="1052640"/>
            <a:ext cx="7343640" cy="5545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B9268-79C2-4058-A591-CD09D533F43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生活方式研究在消费者行为中的作用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692000" y="2708280"/>
            <a:ext cx="67784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生活方式与市场细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生活方式与品牌策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生活方式与广告策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84F1B-147D-4531-AD13-6093D8324B0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543800" cy="89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个性概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26920" y="1483920"/>
            <a:ext cx="78710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的定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决定和反映个人如何适应环境的内在心理特征，包括使某一个体与其他个体相区别的具体特质、属性、特征、因素和态度等多个方面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Schiffman &amp; Kanuk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的特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差异性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稳定性   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塑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40B84-6BAB-444B-9673-5F9783F5FE4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个性与消费者行为的关系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1547640" y="1844640"/>
            <a:ext cx="73249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与购买前的信息收集阶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与商店的选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与喜爱售货员的类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消费者的个性与品牌的选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9B71A-9B58-49DD-B592-211B1891582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个性与消费者行为的关系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68" name="Group 325"/>
          <p:cNvGrpSpPr/>
          <p:nvPr/>
        </p:nvGrpSpPr>
        <p:grpSpPr>
          <a:xfrm>
            <a:off x="539640" y="1844640"/>
            <a:ext cx="8135640" cy="3673080"/>
            <a:chOff x="539640" y="1844640"/>
            <a:chExt cx="8135640" cy="3673080"/>
          </a:xfrm>
        </p:grpSpPr>
        <p:sp>
          <p:nvSpPr>
            <p:cNvPr id="169" name="Rectangle 326"/>
            <p:cNvSpPr/>
            <p:nvPr/>
          </p:nvSpPr>
          <p:spPr>
            <a:xfrm>
              <a:off x="3714840" y="1844640"/>
              <a:ext cx="218376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品牌个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Rectangle 327"/>
            <p:cNvSpPr/>
            <p:nvPr/>
          </p:nvSpPr>
          <p:spPr>
            <a:xfrm>
              <a:off x="539640" y="2890080"/>
              <a:ext cx="119052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诚实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" name="Rectangle 328"/>
            <p:cNvSpPr/>
            <p:nvPr/>
          </p:nvSpPr>
          <p:spPr>
            <a:xfrm>
              <a:off x="2324880" y="2890080"/>
              <a:ext cx="118908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活力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Rectangle 329"/>
            <p:cNvSpPr/>
            <p:nvPr/>
          </p:nvSpPr>
          <p:spPr>
            <a:xfrm>
              <a:off x="4111560" y="2890080"/>
              <a:ext cx="118800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有能力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Rectangle 330"/>
            <p:cNvSpPr/>
            <p:nvPr/>
          </p:nvSpPr>
          <p:spPr>
            <a:xfrm>
              <a:off x="5898600" y="2890080"/>
              <a:ext cx="118764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成熟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Rectangle 331"/>
            <p:cNvSpPr/>
            <p:nvPr/>
          </p:nvSpPr>
          <p:spPr>
            <a:xfrm>
              <a:off x="7486200" y="2890080"/>
              <a:ext cx="118764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强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" name="Rectangle 332"/>
            <p:cNvSpPr/>
            <p:nvPr/>
          </p:nvSpPr>
          <p:spPr>
            <a:xfrm>
              <a:off x="2123280" y="3935880"/>
              <a:ext cx="1583640" cy="158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活泼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勇敢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想象力丰富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时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" name="Rectangle 333"/>
            <p:cNvSpPr/>
            <p:nvPr/>
          </p:nvSpPr>
          <p:spPr>
            <a:xfrm>
              <a:off x="539640" y="3935880"/>
              <a:ext cx="1188000" cy="149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诚实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务实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欢乐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" name="Rectangle 334"/>
            <p:cNvSpPr/>
            <p:nvPr/>
          </p:nvSpPr>
          <p:spPr>
            <a:xfrm>
              <a:off x="4111560" y="3935880"/>
              <a:ext cx="1188000" cy="134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智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可信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成功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Rectangle 335"/>
            <p:cNvSpPr/>
            <p:nvPr/>
          </p:nvSpPr>
          <p:spPr>
            <a:xfrm>
              <a:off x="5897160" y="3935880"/>
              <a:ext cx="1190520" cy="1221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迷人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高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" name="Rectangle 336"/>
            <p:cNvSpPr/>
            <p:nvPr/>
          </p:nvSpPr>
          <p:spPr>
            <a:xfrm>
              <a:off x="7486200" y="3935880"/>
              <a:ext cx="1189080" cy="114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坚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户外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180" name="AutoShape 337"/>
            <p:cNvCxnSpPr/>
            <p:nvPr/>
          </p:nvCxnSpPr>
          <p:spPr>
            <a:xfrm rot="5400000">
              <a:off x="4604760" y="-581760"/>
              <a:ext cx="1440" cy="6944760"/>
            </a:xfrm>
            <a:prstGeom prst="bentConnector3">
              <a:avLst>
                <a:gd name="adj1" fmla="val -360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1" name="AutoShape 338"/>
            <p:cNvCxnSpPr/>
            <p:nvPr/>
          </p:nvCxnSpPr>
          <p:spPr>
            <a:xfrm flipH="1">
              <a:off x="1133280" y="3337560"/>
              <a:ext cx="180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2" name="AutoShape 339"/>
            <p:cNvCxnSpPr/>
            <p:nvPr/>
          </p:nvCxnSpPr>
          <p:spPr>
            <a:xfrm flipH="1">
              <a:off x="2918880" y="3338280"/>
              <a:ext cx="324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3" name="AutoShape 340"/>
            <p:cNvCxnSpPr/>
            <p:nvPr/>
          </p:nvCxnSpPr>
          <p:spPr>
            <a:xfrm flipH="1">
              <a:off x="4705560" y="3338280"/>
              <a:ext cx="468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4" name="AutoShape 341"/>
            <p:cNvCxnSpPr/>
            <p:nvPr/>
          </p:nvCxnSpPr>
          <p:spPr>
            <a:xfrm flipH="1">
              <a:off x="6493320" y="3338280"/>
              <a:ext cx="396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5" name="AutoShape 342"/>
            <p:cNvCxnSpPr/>
            <p:nvPr/>
          </p:nvCxnSpPr>
          <p:spPr>
            <a:xfrm flipH="1">
              <a:off x="8080920" y="3338280"/>
              <a:ext cx="396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6" name="AutoShape 343"/>
            <p:cNvCxnSpPr/>
            <p:nvPr/>
          </p:nvCxnSpPr>
          <p:spPr>
            <a:xfrm>
              <a:off x="2919240" y="2591280"/>
              <a:ext cx="1800" cy="299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7" name="AutoShape 344"/>
            <p:cNvCxnSpPr/>
            <p:nvPr/>
          </p:nvCxnSpPr>
          <p:spPr>
            <a:xfrm>
              <a:off x="6492960" y="2591280"/>
              <a:ext cx="3240" cy="299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88" name="Line 345"/>
            <p:cNvSpPr/>
            <p:nvPr/>
          </p:nvSpPr>
          <p:spPr>
            <a:xfrm>
              <a:off x="4706280" y="2292120"/>
              <a:ext cx="0" cy="59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55AAE-C824-4AE6-83FF-ABAC20315AF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二节 自我概念与消费者行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050560" y="1928880"/>
            <a:ext cx="68216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自我概念概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自我概念的理论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自我概念的营销启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四、自我概念的测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0973D-0F25-4F38-B445-ECC3AA43E21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自我概念概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23640" y="1413000"/>
            <a:ext cx="85690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自我概念的定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也称为自我形象，是指个人对自己的能力、气质、性格等个性特征的感知、态度和自我评价，即个体如何看待自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消费者的自我概念的形成过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通过自己的观察推断自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通过他人对自己的评价形成自我概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通过社会比较形成自我概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05324-F683-447A-8C32-579739B300A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615080" cy="89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自我概念概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95280" y="1052640"/>
            <a:ext cx="85694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自我概念的构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5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8308800" cy="4681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658E6-5401-4E4F-B2AB-8C795D3EE6B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7543800" cy="93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自我概念的理论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矩形 7"/>
          <p:cNvSpPr/>
          <p:nvPr/>
        </p:nvSpPr>
        <p:spPr>
          <a:xfrm>
            <a:off x="539640" y="1052640"/>
            <a:ext cx="784872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50000"/>
              </a:lnSpc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我强化理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我概念对个体有价值，个体行为趋向于维护和强化自我概念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50000"/>
              </a:lnSpc>
              <a:buClr>
                <a:srgbClr val="7030a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环境自我概念理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体在特定的环境下，希望他人如何看待自己。包括与自己相联系的态度、知觉和情感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50000"/>
              </a:lnSpc>
              <a:buClr>
                <a:srgbClr val="7030a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我形象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产品形象一致理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包含形象意义的产品通常会激发包含同样形象的自我概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13:34:19Z</dcterms:created>
  <dc:creator>zhangbo</dc:creator>
  <dc:description/>
  <dc:language>en-US</dc:language>
  <cp:lastModifiedBy>Administrator</cp:lastModifiedBy>
  <dcterms:modified xsi:type="dcterms:W3CDTF">2015-09-02T09:41:47Z</dcterms:modified>
  <cp:revision>37</cp:revision>
  <dc:subject/>
  <dc:title>第三章 消费者的个性、自我概念与生活方式</dc:title>
</cp:coreProperties>
</file>