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4A65-62AA-456C-9D6B-C2EBE95DC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6C68-7391-4F40-A0D2-9ED9FF15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F50F-460F-49CF-A451-46364C904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937E-F17D-40E2-8AC2-DB3138F1B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7613-5993-48C6-8276-A7F5A5752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5ABC-54CB-45F0-8C56-E4719A9C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F8A6-666E-4FBB-90BA-BD7630FE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D140-DBD9-4EF4-87E7-18A77110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E919-9843-421D-914C-36C75C87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C060-7792-45D2-A666-B0DC556B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8648-3B4E-4350-B91F-AADE40EB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0C93-73A2-48EF-8C5E-E9DE4055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4304-0EAF-4ECA-8484-0F829BBA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6A33-084F-49F3-AD81-BB532A8A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3238-9E62-4EC2-8C51-6569FA0C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7A41-A0F6-4690-93E8-F92B7CFB6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3BC8-7B23-43F8-BB5D-3E5F8DAFB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CDD5-59CB-4E6C-8336-283EF35C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344C-DDAB-4158-BC4D-7BEF78A5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C87F-C483-4E71-95CC-0F39B818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5987-A060-4F58-B42A-87009C9B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9110-C053-4E19-8A1E-B08E26A4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D01E-3890-4AA0-93C8-1580948D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0CD9-F88D-4E6B-A90A-253969C2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78A0-2957-4CEE-87C0-CB03B87E161A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67CA-7FCD-48A5-A00E-795B14C5AE7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583B-C7CD-4A71-A0DE-1806B375FB28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95A9-2821-4313-BDF7-F28C036E059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C43C-082F-43AA-939C-CA81BBFFB06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763280" y="2781000"/>
            <a:ext cx="738036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个性与消费者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自我概念与消费者行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生活方式与消费者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79280" y="765000"/>
            <a:ext cx="896472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c0000"/>
                </a:solidFill>
                <a:latin typeface="黑体"/>
                <a:ea typeface="黑体"/>
              </a:rPr>
              <a:t>第四章 消费者的个性、自我概念与生活方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4D1B-0F8E-4BD9-95DD-56EE84CED13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自我概念的理论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矩形 7"/>
          <p:cNvSpPr/>
          <p:nvPr/>
        </p:nvSpPr>
        <p:spPr>
          <a:xfrm>
            <a:off x="539640" y="1052640"/>
            <a:ext cx="7848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形象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品形象一致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2" name="组合 351"/>
          <p:cNvGrpSpPr/>
          <p:nvPr/>
        </p:nvGrpSpPr>
        <p:grpSpPr>
          <a:xfrm>
            <a:off x="611280" y="2276640"/>
            <a:ext cx="7345440" cy="3097080"/>
            <a:chOff x="611280" y="2276640"/>
            <a:chExt cx="7345440" cy="3097080"/>
          </a:xfrm>
        </p:grpSpPr>
        <p:sp>
          <p:nvSpPr>
            <p:cNvPr id="213" name="矩形 27"/>
            <p:cNvSpPr/>
            <p:nvPr/>
          </p:nvSpPr>
          <p:spPr>
            <a:xfrm>
              <a:off x="611280" y="2276640"/>
              <a:ext cx="7345440" cy="30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14" name="Group 313"/>
            <p:cNvGrpSpPr/>
            <p:nvPr/>
          </p:nvGrpSpPr>
          <p:grpSpPr>
            <a:xfrm>
              <a:off x="1830600" y="2276640"/>
              <a:ext cx="5003640" cy="2909160"/>
              <a:chOff x="1830600" y="2276640"/>
              <a:chExt cx="5003640" cy="2909160"/>
            </a:xfrm>
          </p:grpSpPr>
          <p:sp>
            <p:nvSpPr>
              <p:cNvPr id="215" name="Rectangle 314"/>
              <p:cNvSpPr/>
              <p:nvPr/>
            </p:nvSpPr>
            <p:spPr>
              <a:xfrm>
                <a:off x="3567960" y="4437000"/>
                <a:ext cx="141300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象征产品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Rectangle 315"/>
              <p:cNvSpPr/>
              <p:nvPr/>
            </p:nvSpPr>
            <p:spPr>
              <a:xfrm>
                <a:off x="3868920" y="2276640"/>
                <a:ext cx="81072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" name="Rectangle 316"/>
              <p:cNvSpPr/>
              <p:nvPr/>
            </p:nvSpPr>
            <p:spPr>
              <a:xfrm>
                <a:off x="1830600" y="2535840"/>
                <a:ext cx="111168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自我概念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" name="Rectangle 317"/>
              <p:cNvSpPr/>
              <p:nvPr/>
            </p:nvSpPr>
            <p:spPr>
              <a:xfrm>
                <a:off x="5606640" y="2535840"/>
                <a:ext cx="122760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参照群体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2340000" y="3284280"/>
                <a:ext cx="1227960" cy="1527120"/>
                <a:chOff x="2340000" y="3284280"/>
                <a:chExt cx="1227960" cy="1527120"/>
              </a:xfrm>
            </p:grpSpPr>
            <p:cxnSp>
              <p:nvCxnSpPr>
                <p:cNvPr id="220" name="AutoShape 318"/>
                <p:cNvCxnSpPr/>
                <p:nvPr/>
              </p:nvCxnSpPr>
              <p:spPr>
                <a:xfrm>
                  <a:off x="2340000" y="3284280"/>
                  <a:ext cx="1228320" cy="15274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1" name=""/>
                <p:cNvSpPr txBox="1"/>
                <p:nvPr/>
              </p:nvSpPr>
              <p:spPr>
                <a:xfrm rot="16200000">
                  <a:off x="2190240" y="3434040"/>
                  <a:ext cx="1526760" cy="122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2941920" y="2909880"/>
                <a:ext cx="2664360" cy="720"/>
                <a:chOff x="2941920" y="2909880"/>
                <a:chExt cx="2664360" cy="720"/>
              </a:xfrm>
            </p:grpSpPr>
            <p:cxnSp>
              <p:nvCxnSpPr>
                <p:cNvPr id="223" name="AutoShape 319"/>
                <p:cNvCxnSpPr/>
                <p:nvPr/>
              </p:nvCxnSpPr>
              <p:spPr>
                <a:xfrm flipH="1">
                  <a:off x="2941920" y="2909880"/>
                  <a:ext cx="2664720" cy="10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4" name=""/>
                <p:cNvSpPr txBox="1"/>
                <p:nvPr/>
              </p:nvSpPr>
              <p:spPr>
                <a:xfrm>
                  <a:off x="2942280" y="2909880"/>
                  <a:ext cx="266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4980600" y="3284280"/>
                <a:ext cx="1227960" cy="1527120"/>
                <a:chOff x="4980600" y="3284280"/>
                <a:chExt cx="1227960" cy="1527120"/>
              </a:xfrm>
            </p:grpSpPr>
            <p:cxnSp>
              <p:nvCxnSpPr>
                <p:cNvPr id="226" name="AutoShape 320"/>
                <p:cNvCxnSpPr/>
                <p:nvPr/>
              </p:nvCxnSpPr>
              <p:spPr>
                <a:xfrm flipH="1">
                  <a:off x="4980600" y="3284280"/>
                  <a:ext cx="1228320" cy="15274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7" name=""/>
                <p:cNvSpPr txBox="1"/>
                <p:nvPr/>
              </p:nvSpPr>
              <p:spPr>
                <a:xfrm rot="5400000">
                  <a:off x="4831200" y="3433680"/>
                  <a:ext cx="1526760" cy="122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28" name="Rectangle 321"/>
              <p:cNvSpPr/>
              <p:nvPr/>
            </p:nvSpPr>
            <p:spPr>
              <a:xfrm>
                <a:off x="2525400" y="4177800"/>
                <a:ext cx="83376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Rectangle 322"/>
              <p:cNvSpPr/>
              <p:nvPr/>
            </p:nvSpPr>
            <p:spPr>
              <a:xfrm>
                <a:off x="5189400" y="4177800"/>
                <a:ext cx="92664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30" name="Rectangle 39"/>
          <p:cNvSpPr/>
          <p:nvPr/>
        </p:nvSpPr>
        <p:spPr>
          <a:xfrm>
            <a:off x="1403280" y="5517360"/>
            <a:ext cx="60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象征产品在自我与他人之间的沟通作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E8D1-52AC-460B-82EB-AC4A18843F2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6560" y="142920"/>
            <a:ext cx="7216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自我概念的营销启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908000" y="1915920"/>
            <a:ext cx="67788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新产品开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FBAE-F018-4CF4-A762-F265A23D303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四、自我概念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28280"/>
            <a:ext cx="86868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自我概念的常用工具是语义差别量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美国学者马赫塔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N. K. Malhotr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设计了一种既可以测量自我概念，又可以衡量产品形象的语义差别量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该量表是由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双极形容词组成的一个语义区分量表。该量表可以获得消费者所期望的产品形象方面的信息，也可以了解消费者对现在产品的评价，从而找出产品形象改进的方向，更好地满足消费者需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32EB-C5E1-4165-8761-F246E47AE99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755640" y="38160"/>
            <a:ext cx="7056360" cy="681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BAE7-333D-4DE3-9298-4F9FB8BF2EC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生活方式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619280" y="1719360"/>
            <a:ext cx="7067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生活方式的含义与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生活方式的测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生活方式的营销启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6D29-52BB-47A1-9086-95ECE65399D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生活方式的含义与特征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39640" y="1196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活方式含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们以活动、兴趣和观点的形式表现出来的在世界上的生活模式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菲利普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科特勒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活方式的特点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Feldman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&amp; Thielbar, 197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是一种群体现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覆盖了生活的各个方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反映了一个人的核心生活利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在不同人口统计变量上表现出差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A89C-84FD-4BC3-A32C-AC44A5B96E9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生活方式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547280" y="1719360"/>
            <a:ext cx="7139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IO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-IC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na--Val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模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0906-7612-4541-A831-78B300C8518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5676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IO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7" name="Picture 5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16960" cy="4465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6C34-7A75-4218-A2C4-17AEB6C3A73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ALS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61" name="Group 4"/>
          <p:cNvGrpSpPr/>
          <p:nvPr/>
        </p:nvGrpSpPr>
        <p:grpSpPr>
          <a:xfrm>
            <a:off x="539640" y="1628640"/>
            <a:ext cx="8342280" cy="4248360"/>
            <a:chOff x="539640" y="1628640"/>
            <a:chExt cx="8342280" cy="4248360"/>
          </a:xfrm>
        </p:grpSpPr>
        <p:sp>
          <p:nvSpPr>
            <p:cNvPr id="262" name="AutoShape 5"/>
            <p:cNvSpPr/>
            <p:nvPr/>
          </p:nvSpPr>
          <p:spPr>
            <a:xfrm>
              <a:off x="539640" y="1628640"/>
              <a:ext cx="8342280" cy="42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63" name="Group 6"/>
            <p:cNvGrpSpPr/>
            <p:nvPr/>
          </p:nvGrpSpPr>
          <p:grpSpPr>
            <a:xfrm>
              <a:off x="732600" y="2020680"/>
              <a:ext cx="7699680" cy="3587400"/>
              <a:chOff x="732600" y="2020680"/>
              <a:chExt cx="7699680" cy="3587400"/>
            </a:xfrm>
          </p:grpSpPr>
          <p:sp>
            <p:nvSpPr>
              <p:cNvPr id="264" name="Line 7"/>
              <p:cNvSpPr/>
              <p:nvPr/>
            </p:nvSpPr>
            <p:spPr>
              <a:xfrm>
                <a:off x="1392840" y="2020680"/>
                <a:ext cx="1080" cy="318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" name="Rectangle 8"/>
              <p:cNvSpPr/>
              <p:nvPr/>
            </p:nvSpPr>
            <p:spPr>
              <a:xfrm>
                <a:off x="2491200" y="2286000"/>
                <a:ext cx="131976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" name="Rectangle 9"/>
              <p:cNvSpPr/>
              <p:nvPr/>
            </p:nvSpPr>
            <p:spPr>
              <a:xfrm>
                <a:off x="4691520" y="2286000"/>
                <a:ext cx="132084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" name="Rectangle 10"/>
              <p:cNvSpPr/>
              <p:nvPr/>
            </p:nvSpPr>
            <p:spPr>
              <a:xfrm>
                <a:off x="6893640" y="2286000"/>
                <a:ext cx="132084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8" name="AutoShape 11"/>
              <p:cNvSpPr/>
              <p:nvPr/>
            </p:nvSpPr>
            <p:spPr>
              <a:xfrm>
                <a:off x="2272320" y="2152080"/>
                <a:ext cx="176004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思考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9" name="AutoShape 12"/>
              <p:cNvSpPr/>
              <p:nvPr/>
            </p:nvSpPr>
            <p:spPr>
              <a:xfrm>
                <a:off x="2272320" y="3083760"/>
                <a:ext cx="1760040" cy="119556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信奉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0" name="AutoShape 13"/>
              <p:cNvSpPr/>
              <p:nvPr/>
            </p:nvSpPr>
            <p:spPr>
              <a:xfrm>
                <a:off x="4376880" y="2500200"/>
                <a:ext cx="175860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成就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" name="AutoShape 14"/>
              <p:cNvSpPr/>
              <p:nvPr/>
            </p:nvSpPr>
            <p:spPr>
              <a:xfrm>
                <a:off x="4472640" y="3215520"/>
                <a:ext cx="175896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奋争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" name="AutoShape 15"/>
              <p:cNvSpPr/>
              <p:nvPr/>
            </p:nvSpPr>
            <p:spPr>
              <a:xfrm>
                <a:off x="4472640" y="4014360"/>
                <a:ext cx="1758960" cy="11948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求存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" name="AutoShape 16"/>
              <p:cNvSpPr/>
              <p:nvPr/>
            </p:nvSpPr>
            <p:spPr>
              <a:xfrm>
                <a:off x="6673320" y="2152080"/>
                <a:ext cx="1758960" cy="11977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体验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4" name="AutoShape 17"/>
              <p:cNvSpPr/>
              <p:nvPr/>
            </p:nvSpPr>
            <p:spPr>
              <a:xfrm>
                <a:off x="6673320" y="2950200"/>
                <a:ext cx="1758960" cy="11977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制造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5" name="Rectangle 18"/>
              <p:cNvSpPr/>
              <p:nvPr/>
            </p:nvSpPr>
            <p:spPr>
              <a:xfrm>
                <a:off x="1171440" y="5209200"/>
                <a:ext cx="66132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低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6" name="Rectangle 19"/>
              <p:cNvSpPr/>
              <p:nvPr/>
            </p:nvSpPr>
            <p:spPr>
              <a:xfrm>
                <a:off x="732600" y="2286000"/>
                <a:ext cx="660240" cy="278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资源丰富程度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7" name="Rectangle 20"/>
            <p:cNvSpPr/>
            <p:nvPr/>
          </p:nvSpPr>
          <p:spPr>
            <a:xfrm>
              <a:off x="2712960" y="5475960"/>
              <a:ext cx="109836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理想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Rectangle 21"/>
            <p:cNvSpPr/>
            <p:nvPr/>
          </p:nvSpPr>
          <p:spPr>
            <a:xfrm>
              <a:off x="4912560" y="5475960"/>
              <a:ext cx="109944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就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Rectangle 22"/>
            <p:cNvSpPr/>
            <p:nvPr/>
          </p:nvSpPr>
          <p:spPr>
            <a:xfrm>
              <a:off x="7112880" y="5475960"/>
              <a:ext cx="109944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自我表达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AutoShape 23"/>
            <p:cNvSpPr/>
            <p:nvPr/>
          </p:nvSpPr>
          <p:spPr>
            <a:xfrm>
              <a:off x="4377600" y="1628640"/>
              <a:ext cx="1758600" cy="11977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创新者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9C28-B81F-4543-8224-6F6CDBA8152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39640" y="1267920"/>
            <a:ext cx="81583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个人因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决策影响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产品变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468360" y="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-ICP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1332000" y="2997360"/>
            <a:ext cx="7488000" cy="3168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8574-F29B-4BE9-99CD-A49813F8E41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个性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619280" y="1988640"/>
            <a:ext cx="70675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个性概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个性与消费者行为的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27D8-E2E0-4B8F-BC22-0DE703C0675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179280" y="189000"/>
            <a:ext cx="75438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ina--Vals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模型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5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7343640" cy="5545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7564-DF7A-4805-B853-9222D15B3DC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生活方式研究在消费者行为中的作用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692000" y="2708280"/>
            <a:ext cx="67784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市场细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品牌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广告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52B0-3CD4-4D1A-80E5-7F79727C6D6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个性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26920" y="1483920"/>
            <a:ext cx="78710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决定和反映个人如何适应环境的内在心理特征，包括使某一个体与其他个体相区别的具体特质、属性、特征、因素和态度等多个方面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Schiffman &amp; Kanuk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的特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差异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稳定性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塑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1282-6934-49A6-B2BF-8AAFE04EDA7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个性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547640" y="1844640"/>
            <a:ext cx="73249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购买前的信息收集阶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商店的选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喜爱售货员的类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消费者的个性与品牌的选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82E5-6A85-4B8D-B0FD-11804254A88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个性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68" name="Group 325"/>
          <p:cNvGrpSpPr/>
          <p:nvPr/>
        </p:nvGrpSpPr>
        <p:grpSpPr>
          <a:xfrm>
            <a:off x="539640" y="1844640"/>
            <a:ext cx="8135640" cy="3673080"/>
            <a:chOff x="539640" y="1844640"/>
            <a:chExt cx="8135640" cy="3673080"/>
          </a:xfrm>
        </p:grpSpPr>
        <p:sp>
          <p:nvSpPr>
            <p:cNvPr id="169" name="Rectangle 326"/>
            <p:cNvSpPr/>
            <p:nvPr/>
          </p:nvSpPr>
          <p:spPr>
            <a:xfrm>
              <a:off x="3714840" y="1844640"/>
              <a:ext cx="218376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品牌个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Rectangle 327"/>
            <p:cNvSpPr/>
            <p:nvPr/>
          </p:nvSpPr>
          <p:spPr>
            <a:xfrm>
              <a:off x="539640" y="2890080"/>
              <a:ext cx="119052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诚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Rectangle 328"/>
            <p:cNvSpPr/>
            <p:nvPr/>
          </p:nvSpPr>
          <p:spPr>
            <a:xfrm>
              <a:off x="2324880" y="2890080"/>
              <a:ext cx="118908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活力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Rectangle 329"/>
            <p:cNvSpPr/>
            <p:nvPr/>
          </p:nvSpPr>
          <p:spPr>
            <a:xfrm>
              <a:off x="4111560" y="2890080"/>
              <a:ext cx="118800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能力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Rectangle 330"/>
            <p:cNvSpPr/>
            <p:nvPr/>
          </p:nvSpPr>
          <p:spPr>
            <a:xfrm>
              <a:off x="5898600" y="2890080"/>
              <a:ext cx="118764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熟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Rectangle 331"/>
            <p:cNvSpPr/>
            <p:nvPr/>
          </p:nvSpPr>
          <p:spPr>
            <a:xfrm>
              <a:off x="7486200" y="2890080"/>
              <a:ext cx="118764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强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Rectangle 332"/>
            <p:cNvSpPr/>
            <p:nvPr/>
          </p:nvSpPr>
          <p:spPr>
            <a:xfrm>
              <a:off x="2123280" y="3935880"/>
              <a:ext cx="1583640" cy="158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活泼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勇敢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想象力丰富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时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Rectangle 333"/>
            <p:cNvSpPr/>
            <p:nvPr/>
          </p:nvSpPr>
          <p:spPr>
            <a:xfrm>
              <a:off x="539640" y="3935880"/>
              <a:ext cx="1188000" cy="149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诚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务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欢乐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Rectangle 334"/>
            <p:cNvSpPr/>
            <p:nvPr/>
          </p:nvSpPr>
          <p:spPr>
            <a:xfrm>
              <a:off x="4111560" y="3935880"/>
              <a:ext cx="1188000" cy="134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智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可信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功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Rectangle 335"/>
            <p:cNvSpPr/>
            <p:nvPr/>
          </p:nvSpPr>
          <p:spPr>
            <a:xfrm>
              <a:off x="5897160" y="3935880"/>
              <a:ext cx="1190520" cy="122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迷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高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Rectangle 336"/>
            <p:cNvSpPr/>
            <p:nvPr/>
          </p:nvSpPr>
          <p:spPr>
            <a:xfrm>
              <a:off x="7486200" y="3935880"/>
              <a:ext cx="1189080" cy="114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坚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户外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180" name="AutoShape 337"/>
            <p:cNvCxnSpPr/>
            <p:nvPr/>
          </p:nvCxnSpPr>
          <p:spPr>
            <a:xfrm rot="5400000">
              <a:off x="4604760" y="-581760"/>
              <a:ext cx="1440" cy="694476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1" name="AutoShape 338"/>
            <p:cNvCxnSpPr/>
            <p:nvPr/>
          </p:nvCxnSpPr>
          <p:spPr>
            <a:xfrm flipH="1">
              <a:off x="1133280" y="3337560"/>
              <a:ext cx="180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AutoShape 339"/>
            <p:cNvCxnSpPr/>
            <p:nvPr/>
          </p:nvCxnSpPr>
          <p:spPr>
            <a:xfrm flipH="1">
              <a:off x="2918880" y="3338280"/>
              <a:ext cx="324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AutoShape 340"/>
            <p:cNvCxnSpPr/>
            <p:nvPr/>
          </p:nvCxnSpPr>
          <p:spPr>
            <a:xfrm flipH="1">
              <a:off x="4705560" y="3338280"/>
              <a:ext cx="468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AutoShape 341"/>
            <p:cNvCxnSpPr/>
            <p:nvPr/>
          </p:nvCxnSpPr>
          <p:spPr>
            <a:xfrm flipH="1">
              <a:off x="6493320" y="3338280"/>
              <a:ext cx="396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AutoShape 342"/>
            <p:cNvCxnSpPr/>
            <p:nvPr/>
          </p:nvCxnSpPr>
          <p:spPr>
            <a:xfrm flipH="1">
              <a:off x="8080920" y="3338280"/>
              <a:ext cx="396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AutoShape 343"/>
            <p:cNvCxnSpPr/>
            <p:nvPr/>
          </p:nvCxnSpPr>
          <p:spPr>
            <a:xfrm>
              <a:off x="2919240" y="2591280"/>
              <a:ext cx="1800" cy="29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AutoShape 344"/>
            <p:cNvCxnSpPr/>
            <p:nvPr/>
          </p:nvCxnSpPr>
          <p:spPr>
            <a:xfrm>
              <a:off x="6492960" y="2591280"/>
              <a:ext cx="3240" cy="29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8" name="Line 345"/>
            <p:cNvSpPr/>
            <p:nvPr/>
          </p:nvSpPr>
          <p:spPr>
            <a:xfrm>
              <a:off x="4706280" y="2292120"/>
              <a:ext cx="0" cy="59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6669-C320-4939-A860-031176FD86C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自我概念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050560" y="1928880"/>
            <a:ext cx="68216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自我概念概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自我概念的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自我概念的营销启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四、自我概念的测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5939-7565-4638-84E0-8C95300501B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自我概念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23640" y="1413000"/>
            <a:ext cx="85690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概念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也称为自我形象，是指个人对自己的能力、气质、性格等个性特征的感知、态度和自我评价，即个体如何看待自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消费者的自我概念的形成过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自己的观察推断自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他人对自己的评价形成自我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社会比较形成自我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C995-B323-4F58-AD79-724AC86C5D5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61508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自我概念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95280" y="1052640"/>
            <a:ext cx="8569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概念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830880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01F8-6D35-405B-A8A5-298EDCF68CF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自我概念的理论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矩形 7"/>
          <p:cNvSpPr/>
          <p:nvPr/>
        </p:nvSpPr>
        <p:spPr>
          <a:xfrm>
            <a:off x="539640" y="1052640"/>
            <a:ext cx="784872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强化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概念对个体有价值，个体行为趋向于维护和强化自我概念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环境自我概念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在特定的环境下，希望他人如何看待自己。包括与自己相联系的态度、知觉和情感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形象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品形象一致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包含形象意义的产品通常会激发包含同样形象的自我概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3:34:19Z</dcterms:created>
  <dc:creator>zhangbo</dc:creator>
  <dc:description/>
  <dc:language>en-US</dc:language>
  <cp:lastModifiedBy>Administrator</cp:lastModifiedBy>
  <dcterms:modified xsi:type="dcterms:W3CDTF">2015-09-02T09:41:47Z</dcterms:modified>
  <cp:revision>37</cp:revision>
  <dc:subject/>
  <dc:title>第三章 消费者的个性、自我概念与生活方式</dc:title>
</cp:coreProperties>
</file>