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061C-DE5E-4EB9-AB4A-AD87DECB2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FE8E-CFC3-403F-8599-758CC5DE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DD62-2A1A-4D02-B1F6-6CA9C8827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5A6D-AE15-4E8C-BBE9-46F5F09D4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A11D-C88C-45AD-9BF9-AFB8C6EB8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7D32-8D62-4662-802A-553622D5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BDCE-BD6F-4606-8B89-6DFC22BB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479E-E999-4FFC-88D6-DB5C96C0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BFA1-2F13-4A59-A8B1-5F8695D8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F1D7-9C95-4DB7-9518-313863C0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FC05-E26C-4155-9685-9A288BBF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7353-0BFE-4F16-BAF9-DB4A4CDE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FAA4-335B-440F-9A7D-DC0722F5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D0C5-00E3-46BB-8102-7CC372EE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EED9-E6EA-4EE4-A517-1604AD94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55FD-C0EF-409B-AF6A-50F76A7E0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380A-8341-440D-8CB7-70FC6E9E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E0C2A-D3F5-4963-AEE4-916B57424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89100-9A81-440A-A9AA-A55E92E2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71495-08DE-40F8-B8D7-FBB92C0D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727E1-31CE-4808-94F6-6FA096DD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813F9-FBFB-4975-A4A3-2E8AA857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DF58-4187-4390-8C9D-5A9EC46F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FC03C-8862-46B5-96B3-D0B7BA20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C6ED4-6E47-47D0-AB66-A175E432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2755A-0A7F-4F0D-B271-5B59C0E6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FFC03-9A9E-4F06-A977-A383B9FF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52AC0-820F-491D-8679-E43B2C02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66594-5EAD-4679-B6CE-6B1711FC8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7D4FE-8E2E-42F2-841E-E45641BF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BE467-6477-4526-AE6C-E78AC091D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E82D2-D433-4CF8-A313-51549DD4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F7D37-A97B-4851-A99B-DE8F1D5F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BF33-07FC-4700-8025-6B878776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F68C2-D683-4EF1-9588-ACF013B1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B64A0-A497-4797-A1A1-3F56531E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2A4F7-9827-42D5-BCEC-9BE77FE3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CB6EE-06B8-4928-8B9F-7FBC6548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26886-9375-4ED0-AD5D-7DC64ADC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621B2-873F-4EF3-966C-A1CB58FF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C15CA-6872-4B5E-BD8B-77FA8CC6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7381B-2321-47A5-94E7-844B0110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FE32F-337B-46DF-ADD4-1A1615E7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698F-0A42-499D-9D79-8FB918AA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AD51-B86E-42F4-BF58-FA405D6C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1C05-6E18-4BC9-B5AE-A7C89DBC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2250-0AC6-4FA1-B7FF-F5F5CE9A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1830-FC70-4286-9855-D5A40F24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6602-8B48-44CF-B0C3-DBD4F00C7D83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EF98-15D0-4FC3-B14C-22E3A664D331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B7C5-2711-47E5-AD93-AD48EF1C377E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AE31-2E11-4349-8B13-40BBBE01EE73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90c226"/>
                </a:solidFill>
                <a:latin typeface="Times New Roman"/>
              </a:rPr>
              <a:t>第二章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7f7f7f"/>
                </a:solidFill>
                <a:latin typeface="Times New Roman"/>
              </a:rPr>
              <a:t>票据概述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（三）票据的丧失与票据权利补救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1.   </a:t>
            </a: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票据的丧失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2.   </a:t>
            </a: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票据权利的补救措施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公示催告制度，尤以德国与日本为代表；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公告、除权判决、实现票据权利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普通诉讼制度，尤以美国为代表。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     </a:t>
            </a: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实现付款请求权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 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（四）票据权利时效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二、利益返还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560" y="2060640"/>
            <a:ext cx="821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三、票据抗辩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（一）票据抗辩的概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对人抗辩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2.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对物抗辩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Times New Roman"/>
              </a:rPr>
              <a:t>对人抗辩事由主要有：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        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04040"/>
                </a:solidFill>
                <a:latin typeface="Times New Roman"/>
              </a:rPr>
              <a:t>欠缺原因关系或者非法原因关系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对物抗辩事由一般根据票据法的有关规定提出的，主要有：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欠缺应记载的事项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未到期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时效届满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债务人欠缺行为能力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无权代理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伪造或者变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保全手续欠缺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</a:rPr>
              <a:t>     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二）票据抗辩的限制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小结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练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</a:rPr>
              <a:t>第一节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</a:rPr>
              <a:t> 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</a:rPr>
              <a:t> 票据的概念及特性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一、票据的概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票据，就是指出票人签发的，无条件的承诺由自己或委托他人支付一定金额的有价证券。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</a:rPr>
              <a:t>二、票据主要特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要式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形式要件齐全、记载合乎规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无因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产生具有原因关系，如基础贸易合同，资金关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流通转让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流通转让形式：仅凭交付完成转让或者背书转让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流通转让的受让人，其所拥有的票据权利可能超越其前手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设权性和文义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27628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三、票据的功能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．  支付功能（支票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．  信用功能（汇票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．  流通功能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56920" y="860400"/>
            <a:ext cx="775476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90c226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90c226"/>
                </a:solidFill>
                <a:latin typeface="Times New Roman"/>
              </a:rPr>
              <a:t>第二节</a:t>
            </a:r>
            <a:r>
              <a:rPr b="0" lang="zh-CN" sz="3200" spc="-1" strike="noStrike">
                <a:solidFill>
                  <a:srgbClr val="90c226"/>
                </a:solidFill>
                <a:latin typeface="Arial"/>
              </a:rPr>
              <a:t>   </a:t>
            </a:r>
            <a:r>
              <a:rPr b="0" lang="zh-CN" sz="3200" spc="-1" strike="noStrike">
                <a:solidFill>
                  <a:srgbClr val="90c226"/>
                </a:solidFill>
                <a:latin typeface="Times New Roman"/>
              </a:rPr>
              <a:t> 票据法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一、票据法概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法就是规定票据种类、票据行为以及票据当事人权利义务等内容的法律规范的总称。票据法包括广义的和狭义的票据法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二、西方各国的票据法（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1930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以前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一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法国法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德国法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三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英国法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zh-CN" sz="3600" spc="-1" strike="noStrike">
              <a:solidFill>
                <a:srgbClr val="90c226"/>
              </a:solidFill>
              <a:latin typeface="仿宋_GB2312"/>
              <a:ea typeface="仿宋_GB2312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三、统一票据法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404040"/>
                </a:solidFill>
                <a:latin typeface="仿宋_GB2312"/>
                <a:ea typeface="仿宋_GB2312"/>
              </a:rPr>
              <a:t>  </a:t>
            </a: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（一）大陆法系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《统一汇票本票法公约》、《解决汇票本票法律冲突公约》和《汇票本票印花税法公约》《统一支票法公约》、《解决支票法律冲突公约》、《支票印花税法公约》。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（二）大陆法系与英美法系的分歧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（三）国际汇票和本票公约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四、我国票据法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</a:rPr>
              <a:t>第三节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</a:rPr>
              <a:t> 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</a:rPr>
              <a:t> 票据权利与票据抗辩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一、票据权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一）票据权利的概念和分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</a:rPr>
              <a:t>付款请求权和追索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二）票据权利的取得和行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</a:rPr>
              <a:t>1.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权利的取得主要有两种方式，即 原始取得和继受取得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</a:rPr>
              <a:t>2.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权利的行使，是指持票人请求票据债务人支付票据金额的行为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08:52:15Z</dcterms:created>
  <dc:creator>LENOVO-T60</dc:creator>
  <dc:description/>
  <cp:keywords/>
  <dc:language>en-US</dc:language>
  <cp:lastModifiedBy>li carrie</cp:lastModifiedBy>
  <cp:lastPrinted>1899-12-30T00:00:00Z</cp:lastPrinted>
  <dcterms:modified xsi:type="dcterms:W3CDTF">2023-07-26T04:03:13Z</dcterms:modified>
  <cp:revision>2</cp:revision>
  <dc:subject/>
  <dc:title>第二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