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836-AE58-432A-A69F-B5287B94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E6F-397C-4073-9281-9E6C663D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85E-7CD6-4745-8E70-5A754678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967-E801-4607-BB19-11CD0DBA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CAEE-6C5C-4220-8C5E-36A87607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2D14-68DF-400C-9F8D-33F2F2F0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A5DE-3C95-4FDA-9DF4-E6D724D4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5E7A-EAE6-4FEB-8BEE-9403CE67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BC03-6BE6-4006-B933-3A8732B9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C1E7-6AA3-41D5-BEE1-786D210C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EACB-07C9-49B3-8DEE-1CF90346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D54-883D-4443-8B21-E3CBBA2C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9E31-F4D1-4CF5-B77F-23D38504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9008-6938-4B2B-B334-61F67806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D777-63FA-4D83-89A1-C28D9FC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BE3E-70FA-4246-AA11-07C87EE0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D564-DD7C-426A-A9C0-3DDD5F36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1C14D-7A7E-4887-95E5-E9842298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BB78-64AC-4E65-88D2-DBAF943C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3EEE-2F70-4BA7-B062-C187AD13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649E1-7566-434B-8C75-F6B102AA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809A-7265-4163-8E0D-C87C01F8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415-754F-4C9D-B3E9-C93F29CD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BDB90-4521-43FC-9CF5-282837EF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9C58-7C4E-47FF-A963-636B8CA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2B94-545A-4D68-8951-452BCDC6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8470-7BD4-4E73-B5C9-6940A3A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FC9E-2301-4335-B2A3-F909C203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0947-B200-43D5-8A9B-33EDCE23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658F8-7C1C-4786-A3CC-10A9CC31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98D8-BFFE-42F9-960D-ADA12CCB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D5398-9FEF-4BE5-B039-055F92F1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0BB59-EC96-46B9-AEE7-92B138F3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BFB-B7DD-4246-8FB5-4C9BAACD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97543-E070-4601-8BEC-DDF82B8D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852F0-363E-4177-8545-21667D48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9001-3BC7-4137-A623-5CBB9AFE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C618E-2A88-4E95-972A-C7D76089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4CEF6-1EC3-4235-AA1E-8DB4561A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7B20A-0145-44B2-A465-750FBF33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5F16-CD2E-4718-89DC-237BB06E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70B3-B034-49BD-8D62-C1BBD7B4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1106-F98C-4F9D-A9BB-6DDEA0E1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66B-E501-4F65-BBEE-E105197D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44B-8597-429D-9BC5-D02947BA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C9C-128B-4D9A-86E9-D493DF3E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63C-2E6F-41CB-A617-5948D30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7D9-2EAF-40E2-9A19-79EE9AE9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C3A7B-9DA1-4395-92C9-379DEBE9C7D7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D451E-1830-42D6-9331-34E1CC29EC7C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F95D1-F70C-480D-8EA9-2C3033036110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7A30C-0967-423B-9A35-F6B88747B096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54500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</a:t>
            </a: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三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440"/>
            <a:ext cx="45212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汇票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某一特定事件发生后定期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the happening of a specified ev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days after bill of lading date pay to the order of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出票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付款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任意记载事项，主要有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担当付款行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 Banker designated as paye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(dat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Bank Of Europ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预备付款人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feree in case of need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To:  C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 case of need refer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BC Company, 129 Buffee Street, Lond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免作退票通知或者放弃拒绝证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or Protest waived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   无追索权（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 to u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三、汇票当事人及其权利义务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基本当事人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其他当事人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被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保证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参加承兑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or for hon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正当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 in due cours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imes New Roman"/>
              <a:ea typeface="方正姚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正当持票人的条件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给付对价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善意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票据逾期或者曾被拒绝承兑或付款，或者对任何人就票据提出的任何抗辨或者权利主张，均不知情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四、汇票的种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根据不同的标准，汇票可分为不同种类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即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ht Bill or Demand Draf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远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ime Bill or Usance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光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Clean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以及跟单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Documentary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   银行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ank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商业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rad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国内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land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外国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eign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二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汇票的行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票据行为概念与特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狭义的票据行为与广义的票据行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票据行为具有要式性、无因性、文义性和独立性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出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的背书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概念和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（三）   背书的伪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特别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peci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, Shangha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空白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lank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  <a:ea typeface="方正姚体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汇票的概念和必要项目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汇票的概念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必要项目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当事人及其权利与义务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种类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限制性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  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D Company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附有条件的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livery of Bill of lading Nol23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 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委托收款背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for collection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ollection pay to the order of Bank of China ,Shanghai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for deposit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value in collection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设质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in pledg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回头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verse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又称还原背书或逆背书，是以票据债务人为被背书人的转让背书。如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签发一张以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为收款人的汇票，该汇票出票后的流通转让如下表所示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提示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esentme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五、汇票的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普通承兑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（二）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限制性承兑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条件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delivery of bills of la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部分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rti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for amount of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￡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00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限制地点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Loc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the Bank of Europe ,London and ther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延长付款时间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Qualified acceptance as to tim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ninety days after sig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六、汇票的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七、汇票的退票、退票通知和拒绝证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通知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拒绝证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otes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</a:t>
            </a: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汇票的概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，就是指出票人签发的，无条件的承诺由自己或委托他人支付一定金额的有价证券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八、汇票的追索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九、汇票的参加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 for ho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 FOR HONO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f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B   Company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9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K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      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十、汇票的保证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e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 GUARANTEE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ccount of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ned by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d on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绝对必要项目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汇票字样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ill of exchang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命令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Unconditional order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in our No.I accoun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provided the goods the supply are complied with contrac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确定的金额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mou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利息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plus interest calculated at the rate of 3% per annum from the date hereof to the date of payment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分期付款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by ten equal consecutive monthly installments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支付其他货币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converted into US dollar at current rate of exchange.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的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限制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only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或者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 Transferable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指示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emonstra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order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来人抬头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earer Orde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六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（七）出票人签章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signature</a:t>
            </a: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票据上的相对必要项目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付款日期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e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汇票是信用工具，其付款期限有两种，即期和远期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即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sight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mand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presentation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远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a fixed future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20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July 20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××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pay to the order 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出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date pay to the order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见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sigh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sight pay to the order of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8:19:14Z</dcterms:created>
  <dc:creator>chen xiaolong</dc:creator>
  <dc:description/>
  <cp:keywords/>
  <dc:language>en-US</dc:language>
  <cp:lastModifiedBy>li carrie</cp:lastModifiedBy>
  <cp:lastPrinted>1899-12-30T00:00:00Z</cp:lastPrinted>
  <dcterms:modified xsi:type="dcterms:W3CDTF">2023-07-26T04:07:32Z</dcterms:modified>
  <cp:revision>25</cp:revision>
  <dc:subject/>
  <dc:title>第三章        汇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