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5A4-8258-460F-AEB3-571378DC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4B1-AD42-4870-AAC0-257F635A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D82-C8F6-4202-AEEA-0F5758B3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A0B-0C09-4202-A8D3-261BB9E4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8D38-8AEB-4434-B377-D15D9F01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E613-AE0C-46F4-8119-08830C4C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C673-20FF-4563-87F4-1DF9ACDD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B3F7-D81E-4A8D-AFA3-34B0C76F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BEA1-B580-4469-9D24-B38F8E73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333D-6A0E-42E5-BF73-6AB29A24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9DFB-C555-4D78-ACA1-AA60F715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42E-8348-4189-B271-356ACE19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F865-063B-4329-8815-F1CB714C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8C5A-52D3-4E6C-886F-976BA2F9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7EFF-16E7-43DC-92B9-3D31BA2C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5FAB-FAE7-4378-B8C0-12CE4CC5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3F13-46F2-4A4B-AAFA-8E419345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CF0-43C4-4026-911C-E5BA6D07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EBA-E08F-43F0-8780-A3B36B30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BB5-CA52-4C81-8CCE-9FD004CF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B79-1438-403E-81CE-A3656A88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1C5-8156-44D7-86EC-70065595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841-6421-4BF6-ACAB-9A5BBC2E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B9E1-593F-43E5-AABD-A18D67CA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3F7D-E7ED-4A7B-A465-9D7203631384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5C49-5529-44D1-8FA5-55BDC8194DB7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投融资学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（第三版）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       杨大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77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基本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直接投资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新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 新古典学派的边际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早期的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组合和定价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有效市场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券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期权定价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资产组合保险原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主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企业投融资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企业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融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的融资渠道及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资金需求量的预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定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比率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资金习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48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企业融资的基本途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吸收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债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长期贷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发行认股权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发行可转换债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企业融资工具的创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存托凭证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应收账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商业票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企业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投资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依据投资内容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依据对企业生产经营的影响程度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依据投资方案之间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依据投资与企业原有的生产经营能力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投资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投资是企业生产、生存和发展壮大的直接动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投资是企业调整产品生产方向和生产结构的物质保证力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企业投资是提高企业素质、增强企业竞争能力的重要手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投资对宏观经济发展有着巨大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影响企业投资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企业的投资决策权限与国家的干预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领导者的企业家精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投资的预期收益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技术进步状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融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产品销路和原料来源的充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五、企业投资决策程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提出投资项目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拟定投资项目的备选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评选和确定投资项目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不断调整、完善决策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事后分析与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机构投融资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授课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大楷 主编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配套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 晔 主编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案例与习题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商业银行投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商业银行的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是企业法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经营对象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商业银行与专业银行相比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商业银行的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证券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证券公司概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证券公司发展的雏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商人银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今证券公司的大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自营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管理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证券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公司融资的主要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证券公司的融资制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证券公司融资的现状和发展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  保险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保险公司投资的发展历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保险公司的投资模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保险公司投资的发展现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保险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股权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利润留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保险技术的外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务资本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再保险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信托公司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概念与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公司的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基金管理公司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基金管理公司的发展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基金管理公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五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政府投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政府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一）市场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三）市场主导、政府督办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融资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银行信贷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公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特许经营权转让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其他政府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我国政府融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融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融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164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政府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投资的动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政府投资的领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政府的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两种投资模式绩效的比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705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政府投资的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财政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货币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产业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国有企业的投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六、我国政府投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投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投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编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导论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六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个人投融资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个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国内个人融资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供求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个人融资渠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个人融资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构建多层次和专业化的个人融资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完善宏观支撑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7151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个人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个人投资者的投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本金的安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入的稳定和资本增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流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参与决策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管理的便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影响个人投资报酬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时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通货膨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财务杠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所得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个人投资收益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个人投资的风险及其规避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个人投资面临的主要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个人投资者的主要投资误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规避投资风险的路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客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七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实物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实物资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项目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项目融资的参与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项目融资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融资的框架结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项目融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中国的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实物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实物资产证券化融资的操作流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实物资产证券化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存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不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06436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节　实物资产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机器设备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重置成本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现行市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实物类流动资产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材料评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在产品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库存商品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中国的实物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 实物资产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实物资产的取得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收购兼并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绿地投资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三）购并方式与绿地投资方式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二、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非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章</a:t>
            </a:r>
            <a:r>
              <a:rPr b="1" lang="zh-CN" sz="6000" spc="-1" strike="noStrike">
                <a:solidFill>
                  <a:srgbClr val="ccecff"/>
                </a:solidFill>
                <a:latin typeface="黑体"/>
                <a:ea typeface="黑体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概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八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无形资产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无形资产概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的含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无形资产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无形资产的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666720"/>
            <a:ext cx="770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无形资产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按照取得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按照是否受专门法律保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按照能否独立存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按照产生来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按照作用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按存续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按照自身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无形资产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上市公司的无形资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4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无形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评估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无形资产评估的对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无形资产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成本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益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收益法和成本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重置成本法与收益现值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不同评估方法的相互检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九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股　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股票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定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股票的价值和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股票的发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发行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发行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股票的发行方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股票的流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场内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场外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股票的交易委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股票交易委托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委托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委托的撤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343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债 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债券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债券的票面要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债券的性质和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债券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按发行主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按计息的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按利率是否变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按偿还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按债券形态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其他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17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债券的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期中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延期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债券评价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收益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期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信用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对利率变动的敏感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交易的活跃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债券收益率曲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五、债券的交易方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现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回购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期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投融资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客体的多样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的根本目的是为了获取一定的效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效益的不确定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具有创造财富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4880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基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基金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基金的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证券投资基金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投资基金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开放式基金和封闭式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公司型基金和契约型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按照投资对象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根据投资目标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按资本的来源和使用地域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488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证券投资基金的投资策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固定比例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平均成本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适时进出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更换基金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定期赎回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衍生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衍生工具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衍生工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期货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uture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远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orward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期权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ption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掉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ap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衍生工具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派生性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杠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风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虚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国际衍生工具市场的发展及其启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48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黄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黄金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黄金投资的价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黄金投资的主要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黄金价格的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长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短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全球主要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伦敦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苏黎世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香港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美国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我国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我国黄金市场的发展历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我国黄金市场存在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我国黄金市场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编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跨国投融资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章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4358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跨国融资的含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跨国融资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融资的起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贸易的产生与发展是跨国融资产生的原始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资本流动是跨国融资发展根本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欧洲货币市场的形成是跨国融资发展的里程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银行国际化进程与跨国融资同步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融资证券化成为全球融资市场发展的一大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全球国际债券融资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国际债券融资规模急剧扩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发达国家的国际债券融资占绝对优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元区成为国际负债资本主要目的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全球国际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全球国际股票市场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存托凭证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洲股权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产生和发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产业投资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证券投资长足发展的阶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的产生是社会分工和科技发展的必然结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的发展呈现多样化和国际化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融资的背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中国跨国融资的发展是对外开放与引进外资政策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中国跨国融资的发展是对外贸易与对外投资发展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中国金融体制的改革为中国跨国融资的发展提供了良好契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中国跨国融资的运用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利用国际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对外借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对外证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促进我国跨国融资的对策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多渠道、多途径扩大境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全方位利用国际金融市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继续将香港作为我国境外融资的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充分发挥我国银行国际分支机构在企业境外融资中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一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投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跨国投资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客体的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的根本目的是实现价值增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蕴涵资产的跨国营运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跨国投资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投资的形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初始形成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以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低迷徘徊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-194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恢复增长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45-197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迅猛发展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代以来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当代跨国直接投资的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发达国家的跨国直接投资仍占主体地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并购驱动了直接投资的增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直接投资大多流入服务业，但升幅最大的在自然资源领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发展中国家跨国公司大幅度增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自由化仍在继续，但出现一些保护主义倾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9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投资的发展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第一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7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8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第二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8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第三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第四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至今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中国跨国直接投资的现状与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多元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行业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区域分布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规模的扩大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方式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中国发展跨国投资的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是当代国际经济联系的主要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有利于充分地利用国外自然资源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有利于充分利用国外资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有利于扩大出口，加快经济国际化进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有利于吸取同时代各国发展的优秀成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中国跨国投资的前景展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良好的国际环境为中国跨国投资提供难得的机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不断改善的国内环境加快了中国跨国投资的步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第五编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管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二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环境分析与评估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75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投融资环境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的特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系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动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差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根据投融资环境因素涉及的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根据投融资环境因素的属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根据投融资环境因素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投融资学的基本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学的基本内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学与相关学科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融资学与金融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融资学与贸易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学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实证分析与规范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定性研究和定量研究相互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总量分析和个量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静态分析与动态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理论研究与实践操作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的因素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然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础设施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政治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济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律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文化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70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环境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评估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坚持从投资者实际要求出发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坚持实事求是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坚持突出重点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评估的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专家实地考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问卷调查评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咨询机构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冷热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因素评分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体制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综合指标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相似度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动态分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三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5400"/>
            </a:b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决策分析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786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决策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各种主要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优先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普通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留存收益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加权平均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资金的边际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资金成本与融资决策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7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融资决策的定量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息税前盈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每股盈余分析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方案对比优选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逐步测试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、融资决策的定性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主体所处行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主体的获利能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主体的经营规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融资主体的资产结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收入变异程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成长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七） 财务的灵活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八）经营控制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决策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决策的程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机会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初步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评估和决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资项目经济分析的基本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动态分析和静态分析相结合，以动态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定量分析和定性分析相结合，以定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全过程经济效益分析和阶段性经济效益分析相结合，以全过程经济效益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价值量分析与实物量分析相结合，以价值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预测分析和统计分析相结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735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投资决策分析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净现值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内部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会计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回收期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多种方案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不确定性条件和风险条件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不确定性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风险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决策树和多阶段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资金约束条件下的投资决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互斥方案组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数学规划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金约束条件下的投资决策应注意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四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投融资风险管理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理论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风险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融资风险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定义及相关结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表现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风险的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融资风险的影响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风险的分析与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风险的防范对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691920"/>
            <a:ext cx="74170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风险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风险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风险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资风险的衡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资风险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实业性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基本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的货币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的公债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李嘉图－巴罗等价定理及其争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旧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新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对企业资本结构理论的简要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18:30Z</dcterms:created>
  <dc:creator>test</dc:creator>
  <dc:description/>
  <dc:language>en-US</dc:language>
  <cp:lastModifiedBy>Windows 用户</cp:lastModifiedBy>
  <dcterms:modified xsi:type="dcterms:W3CDTF">2018-12-11T01:15:57Z</dcterms:modified>
  <cp:revision>41</cp:revision>
  <dc:subject/>
  <dc:title>中级投资学</dc:title>
</cp:coreProperties>
</file>