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09A7-71EC-47C7-9453-91156842E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0FD7-03C0-4869-9753-D325FAC5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331B-C1C1-46D8-93E0-204D2DE2F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3002-174D-4C80-B2F4-ACD68DEB7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93A3-FDA1-4317-8F20-5F0C4C9FB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8725-D35A-44AD-A9F0-6B7FF738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7CEF-9239-410B-B312-7999553F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9CBD-EA2D-4914-8237-23FEF28F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4D78-3E67-4C49-BC3B-5F582581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EE54-1D25-474A-BB10-BF604245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7BA9-4670-4CD1-BC4A-CA4908BF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A8E8-BB5F-41DC-A8F6-3A59353B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E48B-8CE8-4182-831F-E6A8B076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BD1D-DEE6-40F0-9A5B-D296CA7C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48AC-6F02-4DD7-908F-AF7F2B53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4816-A230-4410-9D32-E1F5E0D1B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F80A-3954-4542-93A1-21CA3E7B1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BAA7-90BC-497B-866A-5B20308D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BD02-8CFA-4BB7-809A-D7D1A1EB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C361-8BF3-4613-B52F-8A46225E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665C-F37C-4BE6-935C-EEB09AB1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FB19-29BD-4566-9121-E315D970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CF00-BE8E-40F8-A04A-09276F35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0383-1931-4716-8964-CBC4E4FC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AE70-C30C-4612-ABA9-503FFFADCF4E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EC9D-B7C9-44F1-8DBF-DFC360D7DC65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黑体"/>
              </a:rPr>
              <a:t>投融资学</a:t>
            </a: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黑体"/>
              </a:rPr>
              <a:t>（第三版）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32000" y="4723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海财经大学       杨大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10920" y="0"/>
            <a:ext cx="77770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投资基本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直接投资理论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凯恩斯主义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后凯恩斯主义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新凯恩斯主义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 新古典学派的边际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间接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早期的间接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资产组合和定价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有效市场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债券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期权定价理论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六）资产组合保险原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二编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主体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496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三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企业投融资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813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企业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企业融资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企业融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企业的融资渠道及融资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企业融资的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企业资金需求量的预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定性预测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比率预测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资金习性预测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755280" y="333000"/>
            <a:ext cx="74883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企业融资的基本途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吸收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股票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债券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长期贷款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发行认股权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发行可转换债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企业融资工具的创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存托凭证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应收账款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商业票据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209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企业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企业投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企业投资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依据投资内容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依据对企业生产经营的影响程度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依据投资方案之间的关系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依据投资与企业原有的生产经营能力的关系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企业投资的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企业投资是企业生产、生存和发展壮大的直接动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企业投资是企业调整产品生产方向和生产结构的物质保证力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企业投资是提高企业素质、增强企业竞争能力的重要手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企业投资对宏观经济发展有着巨大的影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影响企业投资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企业的投资决策权限与国家的干预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领导者的企业家精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投资的预期收益水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投资风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技术进步状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融资条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七）产品销路和原料来源的充分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五、企业投资决策程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提出投资项目建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拟定投资项目的备选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评选和确定投资项目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不断调整、完善决策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事后分析与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四章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金融机构投融资</a:t>
            </a:r>
            <a:r>
              <a:rPr b="0" lang="zh-CN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授课教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杨大楷 主编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投融资学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》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海财经大学出版社出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配套教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杨 晔 主编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投融资学案例与习题集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》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海财经大学出版社出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 商业银行投融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一、商业银行的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商业银行是企业法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商业银行经营对象的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商业银行与专业银行相比的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商业银行的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商业银行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商业银行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证券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证券公司概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至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证券公司发展的雏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商人银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至今证券公司的大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 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证券公司投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自营业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资产管理业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证券公司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证券公司融资的主要方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国际证券公司的融资制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我国证券公司融资的现状和发展趋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  保险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保险公司投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保险公司投资的发展历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保险公司的投资模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我国保险公司投资的发展现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保险公司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股权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利润留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保险技术的外来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债务资本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再保险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信托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信托公司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信托的基本概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信托公司的概念与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信托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信托公司的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信托公司的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基金管理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基金管理公司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基金管理公司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我国基金管理公司的发展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基金管理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基金管理公司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基金管理公司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五章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政府投融资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政府融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一、政府融资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一）市场主导型的政府融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主导型的政府融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三）市场主导、政府督办的政府融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政府融资的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银行信贷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公债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特许经营权转让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资产证券化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其他政府融资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我国政府融资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政府融资规模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政府融资结构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755280" y="404640"/>
            <a:ext cx="7991640" cy="54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政府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政府投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政府投资的动因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政府投资的领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政府的投资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政府直接投资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间接投资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两种投资模式绩效的比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10920" y="907920"/>
            <a:ext cx="77058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政府投资的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财政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货币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产业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国有企业的投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六、我国政府投资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政府投资规模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政府投资结构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一编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导论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第六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个人投融资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个人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国内个人融资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供求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个人融资渠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个人融资的发展趋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构建多层次和专业化的个人融资体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完善宏观支撑体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755280" y="620640"/>
            <a:ext cx="771516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个人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个人投资者的投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本金的安全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收入的稳定和资本增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流动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多样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参与决策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管理的便利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55640" y="692280"/>
            <a:ext cx="79200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影响个人投资报酬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时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通货膨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财务杠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所得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个人投资收益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个人投资的风险及其规避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个人投资面临的主要风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个人投资者的主要投资误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规避投资风险的路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三编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       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客体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79280" y="169992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第七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812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实物资产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26920" y="765000"/>
            <a:ext cx="7632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实物资产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项目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项目融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项目融资的参与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项目融资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项目融资的框架结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项目融资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中国的项目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实物资产证券化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实物资产证券化融资的操作流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实物资产证券化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存货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保留所有权的存货抵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不保留所有权的存货抵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4000" y="765000"/>
            <a:ext cx="8064360" cy="54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节　实物资产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机器设备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重置成本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现行市价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实物类流动资产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材料评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在产品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库存商品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中国的实物资产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第三节  实物资产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实物资产的取得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一）收购兼并及其优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二）绿地投资及其优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三）购并方式与绿地投资方式的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二、实物资产的运营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一）股权参与下实物资产的运营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二）非股权参与下实物资产的运营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一章</a:t>
            </a:r>
            <a:r>
              <a:rPr b="1" lang="zh-CN" sz="6000" spc="-1" strike="noStrike">
                <a:solidFill>
                  <a:srgbClr val="ccecff"/>
                </a:solidFill>
                <a:latin typeface="黑体"/>
                <a:ea typeface="黑体"/>
              </a:rPr>
              <a:t> </a:t>
            </a:r>
            <a:br>
              <a:rPr sz="6000"/>
            </a:br>
            <a:br>
              <a:rPr sz="4000"/>
            </a:br>
            <a:br>
              <a:rPr sz="4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投融资概述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95280" y="1241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八章 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无形资产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755640" y="836280"/>
            <a:ext cx="7848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无形资产概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无形资产的含义与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无形资产的含义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无形资产的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99640" y="666720"/>
            <a:ext cx="77043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无形资产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按照取得渠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按照是否受专门法律保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按照能否独立存在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按照产生来源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按照作用方式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按存续期限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七）按照自身性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无形资产的价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上市公司的无形资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4360" y="549000"/>
            <a:ext cx="7488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无形资产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无形资产评估的含义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无形资产评估的对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无形资产评估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成本法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收益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收益法和成本法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重置成本法与收益现值法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不同评估方法的相互检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九章 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金融资产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26920" y="404640"/>
            <a:ext cx="7632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股　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股票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股票的定义与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股票的主要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股票的价值和价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股票的价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股票的价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股票的发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股票发行的基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股票的发行制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股票的发行方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00000" y="1196640"/>
            <a:ext cx="7128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股票的流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场内交易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场外交易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股票的交易委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股票交易委托的种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委托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委托的撤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755280" y="333360"/>
            <a:ext cx="73436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债 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债券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债券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债券的票面要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债券的性质和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债券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按发行主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按计息的方式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按利率是否变动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按偿还期限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按债券形态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其他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26560" y="476280"/>
            <a:ext cx="74170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债券的偿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期中偿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延期偿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债券评价指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收益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期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信用水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对利率变动的敏感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交易的活跃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债券收益率曲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五、债券的交易方式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现货交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回购交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期货交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8351640" cy="52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投融资的基本概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资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主体的多元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客体的多样化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投资的根本目的是为了获取一定的效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投资效益的不确定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投资具有创造财富的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融资的基本概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7488000" cy="57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基 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投资基金的基本概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基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基金的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证券投资基金的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证券投资基金的类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开放式基金和封闭式基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公司型基金和契约型基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按照投资对象划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根据投资目标划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按资本的来源和使用地域划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4360" y="980640"/>
            <a:ext cx="74880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证券投资基金的投资策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固定比例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平均成本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适时进出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更换基金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定期赎回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55280" y="475920"/>
            <a:ext cx="7705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衍生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衍生工具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衍生工具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期货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uture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远期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orward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期权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Option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掉期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wap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826920" y="691920"/>
            <a:ext cx="77155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衍生工具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派生性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杠杆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风险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虚拟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复杂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国际衍生工具市场的发展及其启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国际衍生工具市场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我国衍生工具市场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042560" y="692280"/>
            <a:ext cx="7488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黄 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黄金投资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黄金投资的价值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黄金投资的主要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黄金价格的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长期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短期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900000" y="691920"/>
            <a:ext cx="77155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全球主要的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伦敦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苏黎世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香港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美国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我国的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我国黄金市场的发展历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我国黄金市场存在的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我国黄金市场的发展趋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000" y="1844280"/>
            <a:ext cx="8002440" cy="151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四编 </a:t>
            </a:r>
            <a:br>
              <a:rPr sz="6000"/>
            </a:br>
            <a:br>
              <a:rPr sz="4000"/>
            </a:br>
            <a:br>
              <a:rPr sz="4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跨国投融资</a:t>
            </a: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章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跨国融资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435880" cy="579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一节 全球跨国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跨国融资的含义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跨国融资的类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直接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间接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跨国融资的起源与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国际贸易的产生与发展是跨国融资产生的原始动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国际资本流动是跨国融资发展根本动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欧洲货币市场的形成是跨国融资发展的里程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银行国际化进程与跨国融资同步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融资证券化成为全球融资市场发展的一大趋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53964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全球国际债券融资的最新进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国际债券融资规模急剧扩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发达国家的国际债券融资占绝对优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欧元区成为国际负债资本主要目的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全球国际股票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全球国际股票市场的最新进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存托凭证发行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欧洲股权发行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投融资的产生和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资的产生和发展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产业投资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证券投资长足发展的阶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融资的产生和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的产生是社会分工和科技发展的必然结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的发展呈现多样化和国际化趋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中国跨国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中国跨国融资的背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中国跨国融资的发展是对外开放与引进外资政策的必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中国跨国融资的发展是对外贸易与对外投资发展的必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中国金融体制的改革为中国跨国融资的发展提供了良好契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中国跨国融资的运用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利用国际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对外借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对外证券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促进我国跨国融资的对策建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多渠道、多途径扩大境外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全方位利用国际金融市场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继续将香港作为我国境外融资的重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充分发挥我国银行国际分支机构在企业境外融资中的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一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跨国投资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全球跨国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跨国投资的含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投资主体的多元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投资客体的多样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跨国投资的根本目的是实现价值增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跨国投资蕴涵资产的跨国营运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跨国投资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跨国投资的形成与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初始形成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14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以前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低迷徘徊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14-1945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恢复增长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45-1979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迅猛发展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2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代以来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当代跨国直接投资的特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发达国家的跨国直接投资仍占主体地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并购驱动了直接投资的增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跨国直接投资大多流入服务业，但升幅最大的在自然资源领域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发展中国家跨国公司大幅度增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跨国投资自由化仍在继续，但出现一些保护主义倾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4360" y="333000"/>
            <a:ext cx="7920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中国跨国投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中国跨国投资的发展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第一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79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8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第二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8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第三阶段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第四阶段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9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至今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中国跨国直接投资的现状与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主体多元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行业多样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投资区域分布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投资规模的扩大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投资方式多样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8930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中国发展跨国投资的作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投资是当代国际经济联系的主要形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投资有利于充分地利用国外自然资源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跨国投资有利于充分利用国外资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跨国投资有利于扩大出口，加快经济国际化进程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跨国投资有利于吸取同时代各国发展的优秀成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中国跨国投资的前景展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良好的国际环境为中国跨国投资提供难得的机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不断改善的国内环境加快了中国跨国投资的步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第五编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投融资管理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二章  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环境分析与评估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07552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投融资环境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融资环境的特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系统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动态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差异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投融资环境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根据投融资环境因素涉及的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根据投融资环境因素的属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根据投融资环境因素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137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投融资学的基本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融资学的基本内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投融资学与相关学科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投融资学与金融学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投融资学与贸易学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融资学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实证分析与规范分析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定性研究和定量研究相互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总量分析和个量分析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静态分析与动态分析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理论研究与实践操作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26560" y="1052280"/>
            <a:ext cx="7272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融资环境的因素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自然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基础设施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政治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经济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法律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社会文化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826560" y="691920"/>
            <a:ext cx="77043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 投融资环境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投融资环境评估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坚持从投资者实际要求出发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坚持实事求是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坚持突出重点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投融资环境评估的方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专家实地考察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问卷调查评价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咨询机构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755640" y="764640"/>
            <a:ext cx="7416720" cy="50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融资环境评估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冷热评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多因素评分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体制评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综合指标评价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相似度评价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动态分析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三章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5400"/>
            </a:br>
            <a:br>
              <a:rPr sz="54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决策分析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10920" y="549360"/>
            <a:ext cx="778644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融资决策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各种主要的资金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债券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优先股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普通股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留存收益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加权平均的资金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资金的边际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资金成本与融资决策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10920" y="259920"/>
            <a:ext cx="77756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融资决策的定量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息税前盈余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每股盈余分析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方案对比优选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逐步测试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五、融资决策的定性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主体所处行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主体的获利能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融资主体的经营规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融资主体的资产结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收入变异程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六）成长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七） 财务的灵活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八）经营控制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5075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投资决策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投资决策的程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机会研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初步可行性研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可行性研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项目评估和决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投资项目经济分析的基本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动态分析和静态分析相结合，以动态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定量分析和定性分析相结合，以定量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全过程经济效益分析和阶段性经济效益分析相结合，以全过程经济效益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价值量分析与实物量分析相结合，以价值量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预测分析和统计分析相结合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26560" y="549360"/>
            <a:ext cx="73551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投资决策分析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净现值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内部收益率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会计收益率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投资回收期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盈利能力指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多种方案下的投资决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50560" y="765000"/>
            <a:ext cx="889308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不确定性条件和风险条件下的投资决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不确定性条件下投资决策的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风险条件下投资决策的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决策树和多阶段投资决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资金约束条件下的投资决策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盈利能力指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互斥方案组合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数学规划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资金约束条件下的投资决策应注意的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343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四章  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投融资风险管理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二章 </a:t>
            </a:r>
            <a:br>
              <a:rPr sz="6000"/>
            </a:br>
            <a:br>
              <a:rPr sz="4000"/>
            </a:br>
            <a:br>
              <a:rPr sz="4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投融资理论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7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一节  融资风险管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融资风险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风险的定义及相关结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风险的表现形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融资风险的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企业融资风险的影响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融资风险的分析与衡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风险的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风险的衡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融资风险的管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企业融资风险的防范对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风险的管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899640" y="691920"/>
            <a:ext cx="741708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投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资风险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风险的含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风险的种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投资风险的衡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资风险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证券投资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实业性投资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39280" y="691920"/>
            <a:ext cx="7993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融资基本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政府融资理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政府的货币融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的公债融资理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李嘉图－巴罗等价定理及其争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企业融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旧资本结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新资本结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对企业资本结构理论的简要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08:18:30Z</dcterms:created>
  <dc:creator>test</dc:creator>
  <dc:description/>
  <dc:language>en-US</dc:language>
  <cp:lastModifiedBy>Windows 用户</cp:lastModifiedBy>
  <dcterms:modified xsi:type="dcterms:W3CDTF">2018-12-11T01:15:57Z</dcterms:modified>
  <cp:revision>41</cp:revision>
  <dc:subject/>
  <dc:title>中级投资学</dc:title>
</cp:coreProperties>
</file>