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ARBRAK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AFFB-D3FB-46A6-8791-A2486757D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FFE5-06FA-43D1-BBB2-902847CF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2B81-C746-455C-B5D4-0E264CC97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EBFC-4443-48BA-8EF3-A9A3503E2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9608-4324-43AF-9B35-AC77080D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82CB-7ED4-4295-935C-69CF4C11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CED2-77CD-4BE7-B8EA-8FE7C786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B550-B234-4F90-A401-D26487FF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4617-2B22-48DE-854A-13BC66E0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F139-6023-4522-B88F-869AAA30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3921-C925-4A57-B4B8-FEFF5EBB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FD50-A25E-453B-8BA8-665409B8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F196-85D8-43FF-8FF1-CE7D9B88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495B-8609-4F39-A0B5-8928F3B4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D806-3EDD-4D22-A3F0-4A24420D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69F4-9495-4D7A-86A1-1F5DC5EF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80D4-B5C0-4346-83E8-23FE40F50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5455-4933-4B3D-BEB5-672ABAD5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6B7B-62B4-4C92-9632-5C8C5F79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1ACC-FC3F-49EF-AB62-D6D5D77D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116B-DBF5-4D14-9677-551D5459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39D8-362B-494D-8EB0-5FAE0DDD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89E5-8A0D-4B23-84BD-462CAA2B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086E-A70B-4B43-9D8A-D8E48D4C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F6BF-A899-4D2B-9F28-2BBE53269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EB7F-E225-4841-88CD-143A5E2611C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http://www.sufep.com/bookspic/978-7-5642-1415-9.F.14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二节  保险公司的经营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的外部环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自然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人口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经济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政策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五）社会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六）文化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七）市场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险公司经营的内部环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劳动者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经营技术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资金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四）信息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三节  保险公司的经营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的一般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经济核算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随行就市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薄利多销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公司经营的特殊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风险大量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风险选择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风险分散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四节   保险公司的经营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市场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竞争理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效益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信息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公司经营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长期目标、中期目标和近期目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长期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中期目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近期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贡献目标、公司利益目标和个人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贡献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司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人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财务稳定性目标、持续发展目标和盈利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财务稳定性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持续发展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盈利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第一章  保险公司经营导论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个目标之间的关系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作为保险公司的经营管理部门，应当将财务稳定性目标、持续发展目标、盈利目标有机地结合起来，正确处理好三者的关系，在强调保证财务稳定性目标的基础上，对发展速度目标和盈利目标加以适当的平衡，否则利润和发展就成为无源之水、无本之木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复习思考题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理论费率  实际费率   监管费率  纯费率  附加费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寿险费率厘定的要素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保险公司经营的内部环境和外部环境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经营的特殊原则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从保险公司财务管理的角度分析保险经营的目标以及相互关系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一节  保险经营的商品属性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商品的使用价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稳定器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经济助动器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管理器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商品的价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用保险费形式表示，保险商品的价值为纯保费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R+L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附加保费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C+V+M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保险商品的特性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是一种无形的商品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是一种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非渴求商品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的消费是一种隐型消费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保险商品的价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保险费率的种类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理论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实际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监管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财产保险费率的厘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判断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分类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增减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财产保险费率多采用分类法和增减法来厘定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人寿保险费率厘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保险费率厘定要考虑以下三个基本要素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死亡率或生存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利息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营业费用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保险费率厘定要考虑的其他要素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退保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红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残废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保单中嵌入的各种选择权被保单持有人行使的概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09:04Z</dcterms:modified>
  <cp:revision>21</cp:revision>
  <dc:subject/>
  <dc:title>没有幻灯片标题</dc:title>
</cp:coreProperties>
</file>