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ARBRAK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FCF1-E46F-4C19-9B50-5B673B37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E453-89A8-48AE-B86F-84D5076C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DDE6-FD06-4D65-9DC8-26EB8986A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49D0-9C7D-4181-9EF3-D3A81CBFA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96C3-BB7C-403D-9231-6D80A417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34F9-8235-4A80-82FA-BF6A21C9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906B-CCA9-4BB0-9062-534B0BF1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84E1-1598-424F-A659-E44F1676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9CDE-1D36-4B18-A691-036F15A1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ECB4-1CC2-4365-84E6-88E1CA85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AB21-373C-43AC-B909-08FCB5F7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C512-C186-450B-AA51-DBA5B019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C4AE-D864-4A82-BA60-B3AB1DC3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A77C-285C-4D33-A457-36E1ED3F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762A-4701-4442-86A2-B4B75BDC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74DA-0496-4ADB-8BC1-3653FB78E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9099-512B-41DA-896C-7834819F2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F723-5A64-46DD-9B00-3D77DB6D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1707-49DC-42F9-ADB9-6D3B641E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EF6A-48DA-41EF-AC39-7BA32F3E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41C2-8229-4632-B8E6-824C4A63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D35A-8431-4C6B-BF4F-C211E22D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8F14-A4F8-4671-AC08-AE48AC20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81AE-C418-45E7-8852-C1ECE6F0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CE29-D6E3-4CD2-A551-CE548465D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47B5-6DA6-4609-962F-340DD88EE21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http://www.sufep.com/bookspic/978-7-5642-1415-9.F.141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二节  保险公司的经营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的外部环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自然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人口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经济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政策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五）社会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六）文化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七）市场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险公司经营的内部环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劳动者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经营技术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资金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四）信息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三节  保险公司的经营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的一般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经济核算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随行就市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薄利多销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公司经营的特殊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风险大量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风险选择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风险分散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四节   保险公司的经营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市场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竞争理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效益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信息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公司经营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长期目标、中期目标和近期目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长期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中期目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近期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贡献目标、公司利益目标和个人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贡献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司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人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财务稳定性目标、持续发展目标和盈利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财务稳定性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持续发展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盈利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第一章  保险公司经营导论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个目标之间的关系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作为保险公司的经营管理部门，应当将财务稳定性目标、持续发展目标、盈利目标有机地结合起来，正确处理好三者的关系，在强调保证财务稳定性目标的基础上，对发展速度目标和盈利目标加以适当的平衡，否则利润和发展就成为无源之水、无本之木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复习思考题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理论费率  实际费率   监管费率  纯费率  附加费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寿险费率厘定的要素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保险公司经营的内部环境和外部环境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经营的特殊原则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从保险公司财务管理的角度分析保险经营的目标以及相互关系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一节  保险经营的商品属性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商品的使用价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稳定器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经济助动器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管理器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商品的价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用保险费形式表示，保险商品的价值为纯保费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R+L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附加保费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C+V+M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保险商品的特性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是一种无形的商品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是一种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非渴求商品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的消费是一种隐型消费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保险商品的价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保险费率的种类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理论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实际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监管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财产保险费率的厘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判断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分类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增减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财产保险费率多采用分类法和增减法来厘定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人寿保险费率厘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保险费率厘定要考虑以下三个基本要素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死亡率或生存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利息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营业费用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保险费率厘定要考虑的其他要素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退保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红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残废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保单中嵌入的各种选择权被保单持有人行使的概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09:04Z</dcterms:modified>
  <cp:revision>21</cp:revision>
  <dc:subject/>
  <dc:title>没有幻灯片标题</dc:title>
</cp:coreProperties>
</file>