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CARBRAK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27F4-6F5E-4E5C-8C95-001D76986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20F0-6824-4AE8-B4B8-D77E2672D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1B18-A517-4AEB-ACEA-FDAEDC101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5295-A006-455B-AFEE-AE90C9964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6AC14-744F-4A5E-9FD5-9C033C60B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6E783-7BAB-46A6-AC9B-922F5B0F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5487D-7C73-4C3E-9CDB-4B5C1B8EC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077A6-31E6-40DB-ADBA-896DF9873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28611-1715-463C-92F6-7E72B1705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76209-DD20-49A6-8777-DE3B066C8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DC1E1-76FB-48E1-B283-DE5D1617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069C-160E-4D9D-954E-168545E15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9E656-E302-4DAF-8519-1FE15DD9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3ADE1-AF43-4A0E-A405-D7AAFD45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D16D4-A724-4E2D-BFA4-6D2D1BBF2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B9DA8-AD59-426B-BA5A-9B2A9C0A5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221F8-568F-47E9-9734-783DF9180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581B-B571-44CF-B054-D1698DAD0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0A8C-F5A7-4F35-8118-23CF075EF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DC2F-556D-4C38-8E6A-CED736765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8E8F-2ED8-4589-80ED-C0373461E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4E83-6542-4D79-B17A-51CF77B8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D6A5-8EA9-48E5-837C-DADA0400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54D0-D6BB-44FB-8899-C6D59D9F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00BAC-F57C-462E-992B-E60EDB8C3D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B03BC-FDA4-4DDB-B9F3-DD6A5BC45FD6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http://www.sufep.com/bookspic/978-7-5642-1415-9.F.141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第二节  保险公司的经营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保险经营的外部环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自然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人口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经济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四）政策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五）社会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六）文化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七）市场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保险公司经营的内部环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劳动者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经营技术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三）资金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四）信息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第三节  保险公司的经营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保险经营的一般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经济核算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随行就市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薄利多销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、保险公司经营的特殊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风险大量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风险选择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风险分散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第四节   保险公司的经营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保险经营理念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市场理念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竞争理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效益理念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信息理念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、保险公司经营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长期目标、中期目标和近期目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长期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中期目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近期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社会贡献目标、公司利益目标和个人利益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社会贡献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公司利益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个人利益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财务稳定性目标、持续发展目标和盈利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财务稳定性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持续发展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盈利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第一章  保险公司经营导论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个目标之间的关系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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作为保险公司的经营管理部门，应当将财务稳定性目标、持续发展目标、盈利目标有机地结合起来，正确处理好三者的关系，在强调保证财务稳定性目标的基础上，对发展速度目标和盈利目标加以适当的平衡，否则利润和发展就成为无源之水、无本之木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复习思考题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名词解释：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理论费率  实际费率   监管费率  纯费率  附加费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寿险费率厘定的要素。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分析保险公司经营的内部环境和外部环境。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经营的特殊原则。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从保险公司财务管理的角度分析保险经营的目标以及相互关系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第一节  保险经营的商品属性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保险商品的使用价值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社会稳定器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经济助动器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社会管理器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、保险商品的价值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用保险费形式表示，保险商品的价值为纯保费（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R+L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）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+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附加保费（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C+V+M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、保险商品的特性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商品是一种无形的商品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商品是一种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非渴求商品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商品的消费是一种隐型消费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四、保险商品的价格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保险费率的种类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理论费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实际费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监管费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财产保险费率的厘定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判断法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分类法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增减法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财产保险费率多采用分类法和增减法来厘定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人寿保险费率厘定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寿保险费率厘定要考虑以下三个基本要素：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死亡率或生存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利息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营业费用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寿保险费率厘定要考虑的其他要素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1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退保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2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分红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）残废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）保单中嵌入的各种选择权被保单持有人行使的概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dc:language>en-US</dc:language>
  <cp:lastModifiedBy>苏菲的小猫</cp:lastModifiedBy>
  <dcterms:modified xsi:type="dcterms:W3CDTF">2020-05-25T05:09:04Z</dcterms:modified>
  <cp:revision>21</cp:revision>
  <dc:subject/>
  <dc:title>没有幻灯片标题</dc:title>
</cp:coreProperties>
</file>