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6E20-DA57-487C-8750-13DBDC98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078E-4A3A-4407-9939-7129CEA8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A03C-11C2-4530-80EE-AB479F2B3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9332-173A-4575-A647-646125F53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093D-5844-4EC7-AC7A-153125364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B6C1-D829-4756-A703-A9785F59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4990-3027-4029-9DBB-7AAA471F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27ED-AF71-4705-B79F-36BA61C3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0083-42E6-4183-B6A8-5E8E5E94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3A8E-FDCB-410A-808D-84AB56C7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62E3-3225-413E-A401-C4E37CAC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01D5-2B60-48E2-8E90-1F4981FE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28B3-2F4C-463D-9FD3-9A9DD638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4A77-A2C6-454E-BCD5-6499B9E1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1DA1-778E-4200-B51C-17D964B9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6AE7-C8C2-471C-ACC6-43E13CEFE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24F9-43CF-4719-B926-947C4EC3B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F6D5-02E7-436D-AC3E-82DD761B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316D-50E1-4FFD-8F23-67DB7451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2342-28B6-44FA-9C6B-53D70595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F53B-A951-4DA3-B085-2D3962BC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8401-A143-49D5-A05A-A9542900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0DAB-B06D-42D8-926C-0788743C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1F70-E023-482A-A48A-6A8321EF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32D6-F592-4D39-BDCB-734C6249A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F091-F4F5-4B88-80F0-DC6906F7422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第四章  保险承保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个人健康保险业务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健康状况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逆选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道德风险因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性别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工作经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生活习惯和生活方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个人意外伤害保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危险爱好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身体健康状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金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四、团体保险业务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新业务的核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团体的资格、团体的规模、团体成员的投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资格、团体的业务性质、参保率、团体成员的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动率、保险金额的确定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续保业务的核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团体的理赔经验、参保率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五、财产保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性能或构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用途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环境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重要防护部位及防护措施状况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检验有无正处于危险状态中的财产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检查各项安全管理制度的制定和执行情况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四节  保险合同的保全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全的内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全的意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三、保全服务的内容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单保全服务的基本作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附加价值服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咨询与投诉服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核保  续保  道德风险  心理风险保全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获取承保信息的主要渠道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核保中事前选择和事后选择的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道德风险 ？如何控制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心理风险？如何控制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个人寿险和团体寿险的核保要素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财产保险的核保要素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单保全服务的基本作业的内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一节  保险承保的基本程序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制定承保方针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获取和评价承保信息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主要渠道：投保单、中介人及其经营业绩、体检报告、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地区销售经理、消费者调查报告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审查核保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作出承保决定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五、单证管理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六、续保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二节  承保选择与承保控制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核保的概念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核保是指保险公司对可保风险进行评判与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分类，进而决定是否承保、以什么样的条件承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分析过程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核保的内容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核保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事前核保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投保人或被保险人的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标的及其利益的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事后核保选择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核保控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控制道德风险的主要措施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控制保险金额，避免高额保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控制赔偿程度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控制心理风险的主要措施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定免赔额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定共同保险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3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单中订入保证条款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4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续保优惠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5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其他优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三节  核保要素分析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个人寿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同健康有关的风险因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体格、 既往症、现症、家庭病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同健康无关的风险因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、习惯或嗜好、道德风险因素、财务状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31:05Z</dcterms:modified>
  <cp:revision>22</cp:revision>
  <dc:subject/>
  <dc:title>没有幻灯片标题</dc:title>
</cp:coreProperties>
</file>